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D33-9500-437D-A6BF-6B513942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0108-D016-40B7-95C7-7C6E1435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08E2-4D61-44FF-AE84-DA7AF790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DB1-3FE6-495F-AAAF-48B8DE87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F44C-E111-42E5-8A7D-42A57B42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F261-56D2-46B5-BEC9-9B09290C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A47F-0AF6-4983-9A88-1271F017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9293-4507-46A4-9C87-77A6240A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9020-A6E3-4261-8830-324B009F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0816-73F3-4C78-ADFA-0FA0261E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4ADD-3CF7-4A54-830F-B019C449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095-3ADB-4FA6-AFF4-E4A3A5F8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C0A0-74D8-4D7A-97AB-CE19CCBB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BDA0-28B3-4C30-8F01-BFA8578B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9277-D867-4208-8F4C-91933032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E583-3490-45B1-8909-124C44D8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16A9-25AF-4DD0-91FC-DFE42AF9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541A-DA35-4E6A-8BDB-448141C4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A839-BAE9-4D42-B9FB-AAB03B07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06D9-9886-474A-91B2-A869C8CB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47F-AD12-488B-AB8A-8B2C0B88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25A-6FCA-42AE-AF85-B7F9F94B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83C9-88D3-44D6-A8AD-0186461A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73A-F77C-4FFC-98B8-35057DB0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4639-C715-4F34-92DB-8335692F1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070A-321D-4AFA-85BE-9BE7D4704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Section 6.2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the following integers from greatest to leas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7, 17, 0, -3, -17, 3, -13,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35920" y="5286240"/>
            <a:ext cx="223920" cy="393840"/>
          </a:xfrm>
          <a:custGeom>
            <a:avLst/>
            <a:gdLst/>
            <a:ahLst/>
            <a:rect l="l" t="t" r="r" b="b"/>
            <a:pathLst>
              <a:path w="621" h="1093">
                <a:moveTo>
                  <a:pt x="22374" y="14709"/>
                </a:moveTo>
                <a:cubicBezTo>
                  <a:pt x="22285" y="14709"/>
                  <a:pt x="22448" y="14908"/>
                  <a:pt x="22523" y="14982"/>
                </a:cubicBezTo>
                <a:cubicBezTo>
                  <a:pt x="22627" y="15086"/>
                  <a:pt x="22793" y="15186"/>
                  <a:pt x="22920" y="15255"/>
                </a:cubicBezTo>
                <a:cubicBezTo>
                  <a:pt x="22928" y="15255"/>
                  <a:pt x="22936" y="15255"/>
                  <a:pt x="22944" y="15255"/>
                </a:cubicBezTo>
                <a:cubicBezTo>
                  <a:pt x="22875" y="15447"/>
                  <a:pt x="22679" y="15575"/>
                  <a:pt x="22523" y="15726"/>
                </a:cubicBezTo>
                <a:cubicBezTo>
                  <a:pt x="22506" y="15743"/>
                  <a:pt x="22490" y="15759"/>
                  <a:pt x="22473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4510080"/>
            <a:ext cx="312840" cy="392040"/>
          </a:xfrm>
          <a:custGeom>
            <a:avLst/>
            <a:gdLst/>
            <a:ahLst/>
            <a:rect l="l" t="t" r="r" b="b"/>
            <a:pathLst>
              <a:path w="869" h="1093">
                <a:moveTo>
                  <a:pt x="4465" y="12526"/>
                </a:moveTo>
                <a:cubicBezTo>
                  <a:pt x="4145" y="12732"/>
                  <a:pt x="3912" y="13141"/>
                  <a:pt x="3696" y="13469"/>
                </a:cubicBezTo>
                <a:cubicBezTo>
                  <a:pt x="3640" y="13562"/>
                  <a:pt x="3640" y="13576"/>
                  <a:pt x="3597" y="136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3160" y="4429080"/>
            <a:ext cx="339840" cy="473040"/>
          </a:xfrm>
          <a:custGeom>
            <a:avLst/>
            <a:gdLst/>
            <a:ahLst/>
            <a:rect l="l" t="t" r="r" b="b"/>
            <a:pathLst>
              <a:path w="943" h="1316">
                <a:moveTo>
                  <a:pt x="6424" y="12303"/>
                </a:moveTo>
                <a:cubicBezTo>
                  <a:pt x="6165" y="12673"/>
                  <a:pt x="5877" y="13012"/>
                  <a:pt x="5631" y="13395"/>
                </a:cubicBezTo>
                <a:cubicBezTo>
                  <a:pt x="5542" y="13537"/>
                  <a:pt x="5547" y="13556"/>
                  <a:pt x="5482" y="136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71840" y="4510080"/>
            <a:ext cx="142920" cy="463680"/>
          </a:xfrm>
          <a:custGeom>
            <a:avLst/>
            <a:gdLst/>
            <a:ahLst/>
            <a:rect l="l" t="t" r="r" b="b"/>
            <a:pathLst>
              <a:path w="398" h="1291">
                <a:moveTo>
                  <a:pt x="7541" y="12526"/>
                </a:moveTo>
                <a:cubicBezTo>
                  <a:pt x="7415" y="12852"/>
                  <a:pt x="7376" y="13189"/>
                  <a:pt x="7268" y="13519"/>
                </a:cubicBezTo>
                <a:cubicBezTo>
                  <a:pt x="7245" y="13589"/>
                  <a:pt x="7186" y="13747"/>
                  <a:pt x="7144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54240" y="4491000"/>
            <a:ext cx="268560" cy="411120"/>
          </a:xfrm>
          <a:custGeom>
            <a:avLst/>
            <a:gdLst/>
            <a:ahLst/>
            <a:rect l="l" t="t" r="r" b="b"/>
            <a:pathLst>
              <a:path w="745" h="1142">
                <a:moveTo>
                  <a:pt x="9227" y="12477"/>
                </a:moveTo>
                <a:cubicBezTo>
                  <a:pt x="8997" y="12797"/>
                  <a:pt x="8794" y="13137"/>
                  <a:pt x="8582" y="13469"/>
                </a:cubicBezTo>
                <a:cubicBezTo>
                  <a:pt x="8549" y="13519"/>
                  <a:pt x="8516" y="13568"/>
                  <a:pt x="8483" y="136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5464080"/>
            <a:ext cx="258840" cy="519120"/>
          </a:xfrm>
          <a:custGeom>
            <a:avLst/>
            <a:gdLst/>
            <a:ahLst/>
            <a:rect l="l" t="t" r="r" b="b"/>
            <a:pathLst>
              <a:path w="720" h="1440">
                <a:moveTo>
                  <a:pt x="9922" y="15180"/>
                </a:moveTo>
                <a:cubicBezTo>
                  <a:pt x="10024" y="15257"/>
                  <a:pt x="9971" y="15551"/>
                  <a:pt x="9971" y="15677"/>
                </a:cubicBezTo>
                <a:cubicBezTo>
                  <a:pt x="9971" y="15710"/>
                  <a:pt x="9971" y="15743"/>
                  <a:pt x="9971" y="15776"/>
                </a:cubicBezTo>
              </a:path>
              <a:path w="720" h="1440">
                <a:moveTo>
                  <a:pt x="9525" y="16470"/>
                </a:moveTo>
                <a:cubicBezTo>
                  <a:pt x="9594" y="16402"/>
                  <a:pt x="9641" y="16371"/>
                  <a:pt x="9723" y="16321"/>
                </a:cubicBezTo>
              </a:path>
              <a:path w="720" h="1440">
                <a:moveTo>
                  <a:pt x="9922" y="16123"/>
                </a:moveTo>
                <a:cubicBezTo>
                  <a:pt x="10021" y="16049"/>
                  <a:pt x="10112" y="15985"/>
                  <a:pt x="10220" y="15925"/>
                </a:cubicBezTo>
                <a:cubicBezTo>
                  <a:pt x="10240" y="16060"/>
                  <a:pt x="10220" y="16202"/>
                  <a:pt x="10220" y="16346"/>
                </a:cubicBezTo>
                <a:cubicBezTo>
                  <a:pt x="10220" y="16443"/>
                  <a:pt x="10217" y="16525"/>
                  <a:pt x="10195" y="166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90960" y="5429160"/>
            <a:ext cx="250920" cy="500040"/>
          </a:xfrm>
          <a:custGeom>
            <a:avLst/>
            <a:gdLst/>
            <a:ahLst/>
            <a:rect l="l" t="t" r="r" b="b"/>
            <a:pathLst>
              <a:path w="695" h="1390">
                <a:moveTo>
                  <a:pt x="11460" y="15131"/>
                </a:moveTo>
                <a:cubicBezTo>
                  <a:pt x="11410" y="15079"/>
                  <a:pt x="11435" y="15450"/>
                  <a:pt x="11435" y="15577"/>
                </a:cubicBezTo>
                <a:cubicBezTo>
                  <a:pt x="11435" y="15594"/>
                  <a:pt x="11435" y="15610"/>
                  <a:pt x="11435" y="15627"/>
                </a:cubicBezTo>
              </a:path>
              <a:path w="695" h="1390">
                <a:moveTo>
                  <a:pt x="11088" y="16123"/>
                </a:moveTo>
                <a:cubicBezTo>
                  <a:pt x="11167" y="16023"/>
                  <a:pt x="11252" y="15971"/>
                  <a:pt x="11361" y="15900"/>
                </a:cubicBezTo>
              </a:path>
              <a:path w="695" h="1390">
                <a:moveTo>
                  <a:pt x="11559" y="15974"/>
                </a:moveTo>
                <a:cubicBezTo>
                  <a:pt x="11594" y="15904"/>
                  <a:pt x="11621" y="15874"/>
                  <a:pt x="11683" y="15850"/>
                </a:cubicBezTo>
                <a:cubicBezTo>
                  <a:pt x="11722" y="16005"/>
                  <a:pt x="11732" y="15986"/>
                  <a:pt x="11609" y="16098"/>
                </a:cubicBezTo>
                <a:cubicBezTo>
                  <a:pt x="11502" y="16134"/>
                  <a:pt x="11715" y="15940"/>
                  <a:pt x="11782" y="16049"/>
                </a:cubicBezTo>
                <a:cubicBezTo>
                  <a:pt x="11864" y="16182"/>
                  <a:pt x="11670" y="16416"/>
                  <a:pt x="11534" y="16421"/>
                </a:cubicBezTo>
                <a:cubicBezTo>
                  <a:pt x="11414" y="16425"/>
                  <a:pt x="11481" y="16376"/>
                  <a:pt x="11385" y="164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84200" y="5419800"/>
            <a:ext cx="179640" cy="287280"/>
          </a:xfrm>
          <a:custGeom>
            <a:avLst/>
            <a:gdLst/>
            <a:ahLst/>
            <a:rect l="l" t="t" r="r" b="b"/>
            <a:pathLst>
              <a:path w="497" h="795">
                <a:moveTo>
                  <a:pt x="4242" y="15056"/>
                </a:moveTo>
                <a:cubicBezTo>
                  <a:pt x="4104" y="15115"/>
                  <a:pt x="3975" y="15242"/>
                  <a:pt x="3845" y="15329"/>
                </a:cubicBezTo>
                <a:cubicBezTo>
                  <a:pt x="3879" y="15486"/>
                  <a:pt x="4019" y="15574"/>
                  <a:pt x="4142" y="15677"/>
                </a:cubicBezTo>
                <a:cubicBezTo>
                  <a:pt x="4213" y="15736"/>
                  <a:pt x="4277" y="15786"/>
                  <a:pt x="4341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31960" y="5429160"/>
            <a:ext cx="322200" cy="598680"/>
          </a:xfrm>
          <a:custGeom>
            <a:avLst/>
            <a:gdLst/>
            <a:ahLst/>
            <a:rect l="l" t="t" r="r" b="b"/>
            <a:pathLst>
              <a:path w="894" h="1663">
                <a:moveTo>
                  <a:pt x="5432" y="15081"/>
                </a:moveTo>
                <a:cubicBezTo>
                  <a:pt x="5407" y="15279"/>
                  <a:pt x="5394" y="15478"/>
                  <a:pt x="5383" y="15677"/>
                </a:cubicBezTo>
              </a:path>
              <a:path w="894" h="1663">
                <a:moveTo>
                  <a:pt x="4812" y="16470"/>
                </a:moveTo>
                <a:cubicBezTo>
                  <a:pt x="4888" y="16428"/>
                  <a:pt x="4928" y="16410"/>
                  <a:pt x="5011" y="16396"/>
                </a:cubicBezTo>
              </a:path>
              <a:path w="894" h="1663">
                <a:moveTo>
                  <a:pt x="5259" y="16197"/>
                </a:moveTo>
                <a:cubicBezTo>
                  <a:pt x="5315" y="16360"/>
                  <a:pt x="5328" y="16530"/>
                  <a:pt x="5383" y="16694"/>
                </a:cubicBezTo>
              </a:path>
              <a:path w="894" h="1663">
                <a:moveTo>
                  <a:pt x="5383" y="16123"/>
                </a:moveTo>
                <a:cubicBezTo>
                  <a:pt x="5437" y="16232"/>
                  <a:pt x="5497" y="16135"/>
                  <a:pt x="5606" y="16098"/>
                </a:cubicBezTo>
                <a:cubicBezTo>
                  <a:pt x="5639" y="16098"/>
                  <a:pt x="5655" y="16098"/>
                  <a:pt x="5680" y="16098"/>
                </a:cubicBezTo>
                <a:cubicBezTo>
                  <a:pt x="5721" y="16290"/>
                  <a:pt x="5705" y="16533"/>
                  <a:pt x="5705" y="167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17840" y="5402160"/>
            <a:ext cx="393480" cy="625680"/>
          </a:xfrm>
          <a:custGeom>
            <a:avLst/>
            <a:gdLst/>
            <a:ahLst/>
            <a:rect l="l" t="t" r="r" b="b"/>
            <a:pathLst>
              <a:path w="1092" h="1737">
                <a:moveTo>
                  <a:pt x="7565" y="15131"/>
                </a:moveTo>
                <a:cubicBezTo>
                  <a:pt x="7565" y="15090"/>
                  <a:pt x="7565" y="15048"/>
                  <a:pt x="7565" y="15007"/>
                </a:cubicBezTo>
                <a:cubicBezTo>
                  <a:pt x="7565" y="15230"/>
                  <a:pt x="7565" y="15454"/>
                  <a:pt x="7565" y="15677"/>
                </a:cubicBezTo>
              </a:path>
              <a:path w="1092" h="1737">
                <a:moveTo>
                  <a:pt x="6995" y="16396"/>
                </a:moveTo>
                <a:cubicBezTo>
                  <a:pt x="7069" y="16373"/>
                  <a:pt x="7146" y="16342"/>
                  <a:pt x="7218" y="16321"/>
                </a:cubicBezTo>
              </a:path>
              <a:path w="1092" h="1737">
                <a:moveTo>
                  <a:pt x="7491" y="16173"/>
                </a:moveTo>
                <a:cubicBezTo>
                  <a:pt x="7491" y="16363"/>
                  <a:pt x="7491" y="16553"/>
                  <a:pt x="7491" y="16743"/>
                </a:cubicBezTo>
              </a:path>
              <a:path w="1092" h="1737">
                <a:moveTo>
                  <a:pt x="7714" y="16148"/>
                </a:moveTo>
                <a:cubicBezTo>
                  <a:pt x="7774" y="16068"/>
                  <a:pt x="7820" y="16048"/>
                  <a:pt x="7913" y="15999"/>
                </a:cubicBezTo>
                <a:cubicBezTo>
                  <a:pt x="7905" y="16108"/>
                  <a:pt x="7755" y="16466"/>
                  <a:pt x="7838" y="16297"/>
                </a:cubicBezTo>
                <a:cubicBezTo>
                  <a:pt x="8023" y="16258"/>
                  <a:pt x="8195" y="16312"/>
                  <a:pt x="8012" y="16545"/>
                </a:cubicBezTo>
                <a:cubicBezTo>
                  <a:pt x="7914" y="16670"/>
                  <a:pt x="7805" y="16660"/>
                  <a:pt x="7665" y="166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21080" y="4483080"/>
            <a:ext cx="1019160" cy="1581120"/>
          </a:xfrm>
          <a:custGeom>
            <a:avLst/>
            <a:gdLst/>
            <a:ahLst/>
            <a:rect l="l" t="t" r="r" b="b"/>
            <a:pathLst>
              <a:path w="2829" h="4391">
                <a:moveTo>
                  <a:pt x="12774" y="15180"/>
                </a:moveTo>
                <a:cubicBezTo>
                  <a:pt x="12774" y="15081"/>
                  <a:pt x="12794" y="15481"/>
                  <a:pt x="12799" y="15553"/>
                </a:cubicBezTo>
                <a:cubicBezTo>
                  <a:pt x="12804" y="15626"/>
                  <a:pt x="12799" y="15703"/>
                  <a:pt x="12799" y="15776"/>
                </a:cubicBezTo>
              </a:path>
              <a:path w="2829" h="4391">
                <a:moveTo>
                  <a:pt x="12948" y="16222"/>
                </a:moveTo>
                <a:cubicBezTo>
                  <a:pt x="12823" y="16316"/>
                  <a:pt x="12787" y="16415"/>
                  <a:pt x="12774" y="16570"/>
                </a:cubicBezTo>
                <a:cubicBezTo>
                  <a:pt x="12765" y="16677"/>
                  <a:pt x="12833" y="16762"/>
                  <a:pt x="12948" y="16718"/>
                </a:cubicBezTo>
                <a:cubicBezTo>
                  <a:pt x="13020" y="16691"/>
                  <a:pt x="13118" y="16571"/>
                  <a:pt x="13122" y="16495"/>
                </a:cubicBezTo>
                <a:cubicBezTo>
                  <a:pt x="13124" y="16446"/>
                  <a:pt x="13004" y="16363"/>
                  <a:pt x="12973" y="16346"/>
                </a:cubicBezTo>
                <a:cubicBezTo>
                  <a:pt x="12930" y="16346"/>
                  <a:pt x="12905" y="16340"/>
                  <a:pt x="12874" y="16321"/>
                </a:cubicBezTo>
              </a:path>
              <a:path w="2829" h="4391">
                <a:moveTo>
                  <a:pt x="14238" y="15106"/>
                </a:moveTo>
                <a:cubicBezTo>
                  <a:pt x="14151" y="15019"/>
                  <a:pt x="14252" y="15471"/>
                  <a:pt x="14263" y="15553"/>
                </a:cubicBezTo>
                <a:cubicBezTo>
                  <a:pt x="14283" y="15670"/>
                  <a:pt x="14277" y="15691"/>
                  <a:pt x="14312" y="15751"/>
                </a:cubicBezTo>
              </a:path>
              <a:path w="2829" h="4391">
                <a:moveTo>
                  <a:pt x="14312" y="16297"/>
                </a:moveTo>
                <a:cubicBezTo>
                  <a:pt x="14343" y="16159"/>
                  <a:pt x="14402" y="16144"/>
                  <a:pt x="14536" y="16123"/>
                </a:cubicBezTo>
                <a:cubicBezTo>
                  <a:pt x="14550" y="16256"/>
                  <a:pt x="14580" y="16498"/>
                  <a:pt x="14412" y="16570"/>
                </a:cubicBezTo>
                <a:cubicBezTo>
                  <a:pt x="14404" y="16562"/>
                  <a:pt x="14395" y="16553"/>
                  <a:pt x="14387" y="16545"/>
                </a:cubicBezTo>
                <a:cubicBezTo>
                  <a:pt x="14467" y="16438"/>
                  <a:pt x="14600" y="16406"/>
                  <a:pt x="14610" y="16594"/>
                </a:cubicBezTo>
                <a:cubicBezTo>
                  <a:pt x="14620" y="16785"/>
                  <a:pt x="14442" y="16844"/>
                  <a:pt x="14312" y="16793"/>
                </a:cubicBezTo>
                <a:cubicBezTo>
                  <a:pt x="14296" y="16785"/>
                  <a:pt x="14279" y="16776"/>
                  <a:pt x="14263" y="16768"/>
                </a:cubicBezTo>
              </a:path>
              <a:path w="2829" h="4391">
                <a:moveTo>
                  <a:pt x="12626" y="12452"/>
                </a:moveTo>
                <a:cubicBezTo>
                  <a:pt x="12427" y="12918"/>
                  <a:pt x="12267" y="13406"/>
                  <a:pt x="12055" y="13866"/>
                </a:cubicBezTo>
                <a:cubicBezTo>
                  <a:pt x="12038" y="13891"/>
                  <a:pt x="12022" y="13915"/>
                  <a:pt x="12005" y="13940"/>
                </a:cubicBezTo>
              </a:path>
              <a:path w="2829" h="4391">
                <a:moveTo>
                  <a:pt x="14784" y="12551"/>
                </a:moveTo>
                <a:cubicBezTo>
                  <a:pt x="14814" y="12585"/>
                  <a:pt x="14204" y="13222"/>
                  <a:pt x="14039" y="13419"/>
                </a:cubicBezTo>
                <a:cubicBezTo>
                  <a:pt x="13909" y="13587"/>
                  <a:pt x="13902" y="13612"/>
                  <a:pt x="13816" y="136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05640" y="4464000"/>
            <a:ext cx="331560" cy="501840"/>
          </a:xfrm>
          <a:custGeom>
            <a:avLst/>
            <a:gdLst/>
            <a:ahLst/>
            <a:rect l="l" t="t" r="r" b="b"/>
            <a:pathLst>
              <a:path w="919" h="1390">
                <a:moveTo>
                  <a:pt x="16768" y="12402"/>
                </a:moveTo>
                <a:cubicBezTo>
                  <a:pt x="16516" y="12847"/>
                  <a:pt x="16274" y="13295"/>
                  <a:pt x="15949" y="13692"/>
                </a:cubicBezTo>
                <a:cubicBezTo>
                  <a:pt x="15916" y="13725"/>
                  <a:pt x="15883" y="13758"/>
                  <a:pt x="15850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4760" y="5392800"/>
            <a:ext cx="249120" cy="625320"/>
          </a:xfrm>
          <a:custGeom>
            <a:avLst/>
            <a:gdLst/>
            <a:ahLst/>
            <a:rect l="l" t="t" r="r" b="b"/>
            <a:pathLst>
              <a:path w="695" h="1737">
                <a:moveTo>
                  <a:pt x="17512" y="15106"/>
                </a:moveTo>
                <a:cubicBezTo>
                  <a:pt x="17512" y="15065"/>
                  <a:pt x="17512" y="15023"/>
                  <a:pt x="17512" y="14982"/>
                </a:cubicBezTo>
                <a:cubicBezTo>
                  <a:pt x="17562" y="15181"/>
                  <a:pt x="17510" y="15414"/>
                  <a:pt x="17537" y="15627"/>
                </a:cubicBezTo>
                <a:cubicBezTo>
                  <a:pt x="17545" y="15644"/>
                  <a:pt x="17554" y="15660"/>
                  <a:pt x="17562" y="15677"/>
                </a:cubicBezTo>
              </a:path>
              <a:path w="695" h="1737">
                <a:moveTo>
                  <a:pt x="17289" y="16123"/>
                </a:moveTo>
                <a:cubicBezTo>
                  <a:pt x="17289" y="16321"/>
                  <a:pt x="17267" y="16531"/>
                  <a:pt x="17314" y="16718"/>
                </a:cubicBezTo>
              </a:path>
              <a:path w="695" h="1737">
                <a:moveTo>
                  <a:pt x="17587" y="16073"/>
                </a:moveTo>
                <a:cubicBezTo>
                  <a:pt x="17641" y="16044"/>
                  <a:pt x="17935" y="15848"/>
                  <a:pt x="17909" y="16073"/>
                </a:cubicBezTo>
                <a:cubicBezTo>
                  <a:pt x="17838" y="16216"/>
                  <a:pt x="17817" y="16259"/>
                  <a:pt x="17760" y="16346"/>
                </a:cubicBezTo>
                <a:cubicBezTo>
                  <a:pt x="17744" y="16354"/>
                  <a:pt x="17727" y="16363"/>
                  <a:pt x="17711" y="16371"/>
                </a:cubicBezTo>
                <a:cubicBezTo>
                  <a:pt x="17762" y="16268"/>
                  <a:pt x="17872" y="16184"/>
                  <a:pt x="17959" y="16321"/>
                </a:cubicBezTo>
                <a:cubicBezTo>
                  <a:pt x="18076" y="16504"/>
                  <a:pt x="17781" y="16660"/>
                  <a:pt x="17636" y="16644"/>
                </a:cubicBezTo>
                <a:cubicBezTo>
                  <a:pt x="17580" y="16606"/>
                  <a:pt x="17555" y="16611"/>
                  <a:pt x="17562" y="165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12000" y="5375160"/>
            <a:ext cx="231840" cy="571680"/>
          </a:xfrm>
          <a:custGeom>
            <a:avLst/>
            <a:gdLst/>
            <a:ahLst/>
            <a:rect l="l" t="t" r="r" b="b"/>
            <a:pathLst>
              <a:path w="646" h="1589">
                <a:moveTo>
                  <a:pt x="19199" y="14932"/>
                </a:moveTo>
                <a:cubicBezTo>
                  <a:pt x="19225" y="15130"/>
                  <a:pt x="19224" y="15327"/>
                  <a:pt x="19224" y="15528"/>
                </a:cubicBezTo>
              </a:path>
              <a:path w="646" h="1589">
                <a:moveTo>
                  <a:pt x="19224" y="15999"/>
                </a:moveTo>
                <a:cubicBezTo>
                  <a:pt x="19224" y="15842"/>
                  <a:pt x="19224" y="16214"/>
                  <a:pt x="19224" y="16371"/>
                </a:cubicBezTo>
                <a:cubicBezTo>
                  <a:pt x="19224" y="16462"/>
                  <a:pt x="19224" y="16470"/>
                  <a:pt x="19224" y="16520"/>
                </a:cubicBezTo>
              </a:path>
              <a:path w="646" h="1589">
                <a:moveTo>
                  <a:pt x="19422" y="15999"/>
                </a:moveTo>
                <a:cubicBezTo>
                  <a:pt x="19512" y="16044"/>
                  <a:pt x="19464" y="15910"/>
                  <a:pt x="19521" y="15850"/>
                </a:cubicBezTo>
                <a:cubicBezTo>
                  <a:pt x="19599" y="15769"/>
                  <a:pt x="19730" y="15752"/>
                  <a:pt x="19819" y="15701"/>
                </a:cubicBezTo>
                <a:cubicBezTo>
                  <a:pt x="19869" y="15883"/>
                  <a:pt x="19824" y="16099"/>
                  <a:pt x="19819" y="16297"/>
                </a:cubicBezTo>
                <a:cubicBezTo>
                  <a:pt x="19819" y="16313"/>
                  <a:pt x="19819" y="16330"/>
                  <a:pt x="19819" y="163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38200" y="5456160"/>
            <a:ext cx="6759720" cy="108000"/>
          </a:xfrm>
          <a:custGeom>
            <a:avLst/>
            <a:gdLst/>
            <a:ahLst/>
            <a:rect l="l" t="t" r="r" b="b"/>
            <a:pathLst>
              <a:path w="18778" h="298">
                <a:moveTo>
                  <a:pt x="3994" y="15379"/>
                </a:moveTo>
                <a:cubicBezTo>
                  <a:pt x="4063" y="15380"/>
                  <a:pt x="4182" y="15375"/>
                  <a:pt x="4266" y="15379"/>
                </a:cubicBezTo>
                <a:cubicBezTo>
                  <a:pt x="4484" y="15390"/>
                  <a:pt x="4692" y="15402"/>
                  <a:pt x="4911" y="15404"/>
                </a:cubicBezTo>
                <a:cubicBezTo>
                  <a:pt x="5276" y="15407"/>
                  <a:pt x="5620" y="15367"/>
                  <a:pt x="5978" y="15354"/>
                </a:cubicBezTo>
                <a:cubicBezTo>
                  <a:pt x="6777" y="15326"/>
                  <a:pt x="7563" y="15398"/>
                  <a:pt x="8359" y="15404"/>
                </a:cubicBezTo>
                <a:cubicBezTo>
                  <a:pt x="8732" y="15407"/>
                  <a:pt x="9103" y="15414"/>
                  <a:pt x="9475" y="15429"/>
                </a:cubicBezTo>
                <a:cubicBezTo>
                  <a:pt x="9946" y="15448"/>
                  <a:pt x="10419" y="15440"/>
                  <a:pt x="10889" y="15429"/>
                </a:cubicBezTo>
                <a:cubicBezTo>
                  <a:pt x="11510" y="15414"/>
                  <a:pt x="12129" y="15404"/>
                  <a:pt x="12750" y="15404"/>
                </a:cubicBezTo>
                <a:cubicBezTo>
                  <a:pt x="12984" y="15404"/>
                  <a:pt x="13211" y="15424"/>
                  <a:pt x="13444" y="15429"/>
                </a:cubicBezTo>
                <a:cubicBezTo>
                  <a:pt x="14164" y="15446"/>
                  <a:pt x="14910" y="15461"/>
                  <a:pt x="15627" y="15404"/>
                </a:cubicBezTo>
                <a:cubicBezTo>
                  <a:pt x="15909" y="15382"/>
                  <a:pt x="16188" y="15347"/>
                  <a:pt x="16470" y="15329"/>
                </a:cubicBezTo>
                <a:cubicBezTo>
                  <a:pt x="16777" y="15309"/>
                  <a:pt x="17081" y="15277"/>
                  <a:pt x="17388" y="15255"/>
                </a:cubicBezTo>
                <a:cubicBezTo>
                  <a:pt x="17685" y="15234"/>
                  <a:pt x="17984" y="15244"/>
                  <a:pt x="18281" y="15230"/>
                </a:cubicBezTo>
                <a:cubicBezTo>
                  <a:pt x="19162" y="15189"/>
                  <a:pt x="20054" y="15176"/>
                  <a:pt x="20935" y="15156"/>
                </a:cubicBezTo>
                <a:cubicBezTo>
                  <a:pt x="21549" y="15142"/>
                  <a:pt x="22159" y="15194"/>
                  <a:pt x="22771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Objective:  Students will add and subtract integers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How do know the sign of the sum or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How do you know the number part of the sum or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35040" y="61531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266" y="17090"/>
                </a:moveTo>
                <a:lnTo>
                  <a:pt x="4266" y="1709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Objective:  Students will add and subtract integers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Value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distance between a number and 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solute value of a number is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bsolute value of the num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 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-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38080" y="3200400"/>
          <a:ext cx="72864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200400"/>
                    <a:ext cx="7286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5018040" y="1187280"/>
            <a:ext cx="447840" cy="393840"/>
          </a:xfrm>
          <a:custGeom>
            <a:avLst/>
            <a:gdLst/>
            <a:ahLst/>
            <a:rect l="l" t="t" r="r" b="b"/>
            <a:pathLst>
              <a:path w="1241" h="1092">
                <a:moveTo>
                  <a:pt x="14337" y="3299"/>
                </a:moveTo>
                <a:cubicBezTo>
                  <a:pt x="14272" y="3429"/>
                  <a:pt x="14148" y="3547"/>
                  <a:pt x="14015" y="3621"/>
                </a:cubicBezTo>
                <a:cubicBezTo>
                  <a:pt x="13990" y="3629"/>
                  <a:pt x="13965" y="3638"/>
                  <a:pt x="13940" y="3646"/>
                </a:cubicBezTo>
                <a:cubicBezTo>
                  <a:pt x="14028" y="3772"/>
                  <a:pt x="14137" y="3854"/>
                  <a:pt x="14263" y="3944"/>
                </a:cubicBezTo>
              </a:path>
              <a:path w="1241" h="1092">
                <a:moveTo>
                  <a:pt x="14833" y="3398"/>
                </a:moveTo>
                <a:cubicBezTo>
                  <a:pt x="14802" y="3429"/>
                  <a:pt x="14784" y="3601"/>
                  <a:pt x="14784" y="3721"/>
                </a:cubicBezTo>
              </a:path>
              <a:path w="1241" h="1092">
                <a:moveTo>
                  <a:pt x="14486" y="4118"/>
                </a:moveTo>
                <a:cubicBezTo>
                  <a:pt x="14511" y="4110"/>
                  <a:pt x="14535" y="4101"/>
                  <a:pt x="14560" y="4093"/>
                </a:cubicBezTo>
              </a:path>
              <a:path w="1241" h="1092">
                <a:moveTo>
                  <a:pt x="14759" y="4043"/>
                </a:moveTo>
                <a:cubicBezTo>
                  <a:pt x="14759" y="4164"/>
                  <a:pt x="14767" y="4273"/>
                  <a:pt x="14784" y="4390"/>
                </a:cubicBezTo>
              </a:path>
              <a:path w="1241" h="1092">
                <a:moveTo>
                  <a:pt x="14883" y="4043"/>
                </a:moveTo>
                <a:cubicBezTo>
                  <a:pt x="14975" y="4010"/>
                  <a:pt x="15066" y="3980"/>
                  <a:pt x="15156" y="3944"/>
                </a:cubicBezTo>
                <a:cubicBezTo>
                  <a:pt x="15176" y="4078"/>
                  <a:pt x="15176" y="4182"/>
                  <a:pt x="15156" y="43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88000" y="1224000"/>
            <a:ext cx="295200" cy="320760"/>
          </a:xfrm>
          <a:custGeom>
            <a:avLst/>
            <a:gdLst/>
            <a:ahLst/>
            <a:rect l="l" t="t" r="r" b="b"/>
            <a:pathLst>
              <a:path w="819" h="894">
                <a:moveTo>
                  <a:pt x="15801" y="4043"/>
                </a:moveTo>
                <a:cubicBezTo>
                  <a:pt x="15878" y="4034"/>
                  <a:pt x="15945" y="4018"/>
                  <a:pt x="16024" y="4018"/>
                </a:cubicBezTo>
              </a:path>
              <a:path w="819" h="894">
                <a:moveTo>
                  <a:pt x="16148" y="3919"/>
                </a:moveTo>
                <a:cubicBezTo>
                  <a:pt x="16199" y="4034"/>
                  <a:pt x="16238" y="4145"/>
                  <a:pt x="16272" y="4266"/>
                </a:cubicBezTo>
              </a:path>
              <a:path w="819" h="894">
                <a:moveTo>
                  <a:pt x="16421" y="3870"/>
                </a:moveTo>
                <a:cubicBezTo>
                  <a:pt x="16446" y="3853"/>
                  <a:pt x="16470" y="3837"/>
                  <a:pt x="16495" y="3820"/>
                </a:cubicBezTo>
                <a:cubicBezTo>
                  <a:pt x="16521" y="3934"/>
                  <a:pt x="16475" y="3979"/>
                  <a:pt x="16396" y="4068"/>
                </a:cubicBezTo>
                <a:cubicBezTo>
                  <a:pt x="16498" y="4033"/>
                  <a:pt x="16619" y="3965"/>
                  <a:pt x="16619" y="4142"/>
                </a:cubicBezTo>
                <a:cubicBezTo>
                  <a:pt x="16619" y="4275"/>
                  <a:pt x="16454" y="4285"/>
                  <a:pt x="16371" y="4266"/>
                </a:cubicBezTo>
              </a:path>
              <a:path w="819" h="894">
                <a:moveTo>
                  <a:pt x="16098" y="3547"/>
                </a:moveTo>
                <a:cubicBezTo>
                  <a:pt x="16071" y="3503"/>
                  <a:pt x="16059" y="3452"/>
                  <a:pt x="16049" y="3398"/>
                </a:cubicBezTo>
                <a:cubicBezTo>
                  <a:pt x="16071" y="3506"/>
                  <a:pt x="16089" y="3611"/>
                  <a:pt x="16098" y="37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3120" y="1197000"/>
            <a:ext cx="214200" cy="366840"/>
          </a:xfrm>
          <a:custGeom>
            <a:avLst/>
            <a:gdLst/>
            <a:ahLst/>
            <a:rect l="l" t="t" r="r" b="b"/>
            <a:pathLst>
              <a:path w="597" h="1018">
                <a:moveTo>
                  <a:pt x="17214" y="3572"/>
                </a:moveTo>
                <a:cubicBezTo>
                  <a:pt x="17214" y="3555"/>
                  <a:pt x="17214" y="3539"/>
                  <a:pt x="17214" y="3522"/>
                </a:cubicBezTo>
                <a:cubicBezTo>
                  <a:pt x="17260" y="3568"/>
                  <a:pt x="17303" y="3780"/>
                  <a:pt x="17314" y="3919"/>
                </a:cubicBezTo>
              </a:path>
              <a:path w="597" h="1018">
                <a:moveTo>
                  <a:pt x="17190" y="4142"/>
                </a:moveTo>
                <a:cubicBezTo>
                  <a:pt x="17252" y="4130"/>
                  <a:pt x="17281" y="4104"/>
                  <a:pt x="17338" y="4068"/>
                </a:cubicBezTo>
              </a:path>
              <a:path w="597" h="1018">
                <a:moveTo>
                  <a:pt x="17413" y="4068"/>
                </a:moveTo>
                <a:cubicBezTo>
                  <a:pt x="17422" y="4162"/>
                  <a:pt x="17431" y="4254"/>
                  <a:pt x="17462" y="4341"/>
                </a:cubicBezTo>
                <a:cubicBezTo>
                  <a:pt x="17620" y="4292"/>
                  <a:pt x="17668" y="4291"/>
                  <a:pt x="17686" y="4118"/>
                </a:cubicBezTo>
                <a:cubicBezTo>
                  <a:pt x="17625" y="4184"/>
                  <a:pt x="17602" y="4188"/>
                  <a:pt x="17587" y="4266"/>
                </a:cubicBezTo>
              </a:path>
              <a:path w="597" h="1018">
                <a:moveTo>
                  <a:pt x="17115" y="3423"/>
                </a:moveTo>
                <a:cubicBezTo>
                  <a:pt x="17108" y="3389"/>
                  <a:pt x="17097" y="3358"/>
                  <a:pt x="17090" y="3324"/>
                </a:cubicBezTo>
                <a:cubicBezTo>
                  <a:pt x="17132" y="3415"/>
                  <a:pt x="17170" y="3507"/>
                  <a:pt x="17214" y="35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61080" y="1125360"/>
            <a:ext cx="98640" cy="428760"/>
          </a:xfrm>
          <a:custGeom>
            <a:avLst/>
            <a:gdLst/>
            <a:ahLst/>
            <a:rect l="l" t="t" r="r" b="b"/>
            <a:pathLst>
              <a:path w="274" h="1192">
                <a:moveTo>
                  <a:pt x="18579" y="3125"/>
                </a:moveTo>
                <a:cubicBezTo>
                  <a:pt x="18619" y="3278"/>
                  <a:pt x="18628" y="3414"/>
                  <a:pt x="18628" y="3572"/>
                </a:cubicBezTo>
              </a:path>
              <a:path w="274" h="1192">
                <a:moveTo>
                  <a:pt x="18628" y="3894"/>
                </a:moveTo>
                <a:cubicBezTo>
                  <a:pt x="18522" y="4057"/>
                  <a:pt x="18458" y="4141"/>
                  <a:pt x="18554" y="4316"/>
                </a:cubicBezTo>
                <a:cubicBezTo>
                  <a:pt x="18621" y="4282"/>
                  <a:pt x="18877" y="4172"/>
                  <a:pt x="18777" y="4043"/>
                </a:cubicBezTo>
                <a:cubicBezTo>
                  <a:pt x="18707" y="3997"/>
                  <a:pt x="18687" y="3980"/>
                  <a:pt x="18628" y="39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50040" y="1108080"/>
            <a:ext cx="144360" cy="347760"/>
          </a:xfrm>
          <a:custGeom>
            <a:avLst/>
            <a:gdLst/>
            <a:ahLst/>
            <a:rect l="l" t="t" r="r" b="b"/>
            <a:pathLst>
              <a:path w="398" h="968">
                <a:moveTo>
                  <a:pt x="20141" y="3125"/>
                </a:moveTo>
                <a:cubicBezTo>
                  <a:pt x="20141" y="3109"/>
                  <a:pt x="20141" y="3092"/>
                  <a:pt x="20141" y="3076"/>
                </a:cubicBezTo>
                <a:cubicBezTo>
                  <a:pt x="20175" y="3169"/>
                  <a:pt x="20191" y="3250"/>
                  <a:pt x="20191" y="3349"/>
                </a:cubicBezTo>
              </a:path>
              <a:path w="398" h="968">
                <a:moveTo>
                  <a:pt x="20241" y="3572"/>
                </a:moveTo>
                <a:cubicBezTo>
                  <a:pt x="20215" y="3681"/>
                  <a:pt x="20138" y="3858"/>
                  <a:pt x="20166" y="3969"/>
                </a:cubicBezTo>
                <a:cubicBezTo>
                  <a:pt x="20198" y="4098"/>
                  <a:pt x="20371" y="4036"/>
                  <a:pt x="20439" y="3994"/>
                </a:cubicBezTo>
                <a:cubicBezTo>
                  <a:pt x="20535" y="3935"/>
                  <a:pt x="20532" y="3865"/>
                  <a:pt x="20489" y="3795"/>
                </a:cubicBezTo>
                <a:cubicBezTo>
                  <a:pt x="20419" y="3856"/>
                  <a:pt x="20389" y="3895"/>
                  <a:pt x="20389" y="39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69160" y="1027080"/>
            <a:ext cx="231840" cy="446040"/>
          </a:xfrm>
          <a:custGeom>
            <a:avLst/>
            <a:gdLst/>
            <a:ahLst/>
            <a:rect l="l" t="t" r="r" b="b"/>
            <a:pathLst>
              <a:path w="646" h="1241">
                <a:moveTo>
                  <a:pt x="21779" y="2853"/>
                </a:moveTo>
                <a:cubicBezTo>
                  <a:pt x="21811" y="3010"/>
                  <a:pt x="21842" y="3170"/>
                  <a:pt x="21878" y="3324"/>
                </a:cubicBezTo>
                <a:cubicBezTo>
                  <a:pt x="21878" y="3332"/>
                  <a:pt x="21878" y="3341"/>
                  <a:pt x="21878" y="3349"/>
                </a:cubicBezTo>
              </a:path>
              <a:path w="646" h="1241">
                <a:moveTo>
                  <a:pt x="21580" y="3721"/>
                </a:moveTo>
                <a:cubicBezTo>
                  <a:pt x="21589" y="3721"/>
                  <a:pt x="21624" y="3945"/>
                  <a:pt x="21654" y="4093"/>
                </a:cubicBezTo>
              </a:path>
              <a:path w="646" h="1241">
                <a:moveTo>
                  <a:pt x="21878" y="3646"/>
                </a:moveTo>
                <a:cubicBezTo>
                  <a:pt x="21908" y="3631"/>
                  <a:pt x="22207" y="3485"/>
                  <a:pt x="22151" y="3646"/>
                </a:cubicBezTo>
                <a:cubicBezTo>
                  <a:pt x="22087" y="3731"/>
                  <a:pt x="22075" y="3751"/>
                  <a:pt x="22027" y="3795"/>
                </a:cubicBezTo>
                <a:cubicBezTo>
                  <a:pt x="22083" y="3739"/>
                  <a:pt x="22109" y="3723"/>
                  <a:pt x="22175" y="3746"/>
                </a:cubicBezTo>
                <a:cubicBezTo>
                  <a:pt x="22234" y="3898"/>
                  <a:pt x="22206" y="3993"/>
                  <a:pt x="22027" y="4043"/>
                </a:cubicBezTo>
                <a:cubicBezTo>
                  <a:pt x="22010" y="4043"/>
                  <a:pt x="21994" y="4043"/>
                  <a:pt x="21977" y="40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0" y="1303200"/>
            <a:ext cx="17640" cy="135000"/>
          </a:xfrm>
          <a:custGeom>
            <a:avLst/>
            <a:gdLst/>
            <a:ahLst/>
            <a:rect l="l" t="t" r="r" b="b"/>
            <a:pathLst>
              <a:path w="51" h="374">
                <a:moveTo>
                  <a:pt x="22969" y="3621"/>
                </a:moveTo>
                <a:cubicBezTo>
                  <a:pt x="22976" y="3747"/>
                  <a:pt x="22983" y="3876"/>
                  <a:pt x="23019" y="39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75760" y="965160"/>
            <a:ext cx="304560" cy="490680"/>
          </a:xfrm>
          <a:custGeom>
            <a:avLst/>
            <a:gdLst/>
            <a:ahLst/>
            <a:rect l="l" t="t" r="r" b="b"/>
            <a:pathLst>
              <a:path w="844" h="1365">
                <a:moveTo>
                  <a:pt x="23664" y="2679"/>
                </a:moveTo>
                <a:cubicBezTo>
                  <a:pt x="23808" y="2734"/>
                  <a:pt x="23977" y="2769"/>
                  <a:pt x="24110" y="2828"/>
                </a:cubicBezTo>
                <a:cubicBezTo>
                  <a:pt x="24090" y="2963"/>
                  <a:pt x="23927" y="3097"/>
                  <a:pt x="23837" y="3200"/>
                </a:cubicBezTo>
                <a:cubicBezTo>
                  <a:pt x="23821" y="3216"/>
                  <a:pt x="23804" y="3233"/>
                  <a:pt x="23788" y="3249"/>
                </a:cubicBezTo>
              </a:path>
              <a:path w="844" h="1365">
                <a:moveTo>
                  <a:pt x="23316" y="2778"/>
                </a:moveTo>
                <a:cubicBezTo>
                  <a:pt x="23254" y="2922"/>
                  <a:pt x="23303" y="2997"/>
                  <a:pt x="23316" y="3150"/>
                </a:cubicBezTo>
                <a:cubicBezTo>
                  <a:pt x="23316" y="3249"/>
                  <a:pt x="23316" y="3266"/>
                  <a:pt x="23316" y="3324"/>
                </a:cubicBezTo>
              </a:path>
              <a:path w="844" h="1365">
                <a:moveTo>
                  <a:pt x="23292" y="3597"/>
                </a:moveTo>
                <a:cubicBezTo>
                  <a:pt x="23413" y="3597"/>
                  <a:pt x="23522" y="3599"/>
                  <a:pt x="23639" y="3572"/>
                </a:cubicBezTo>
                <a:cubicBezTo>
                  <a:pt x="23693" y="3696"/>
                  <a:pt x="23625" y="3866"/>
                  <a:pt x="23589" y="3994"/>
                </a:cubicBezTo>
                <a:cubicBezTo>
                  <a:pt x="23581" y="4010"/>
                  <a:pt x="23572" y="4027"/>
                  <a:pt x="23564" y="40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82880" y="3367080"/>
            <a:ext cx="17280" cy="768240"/>
          </a:xfrm>
          <a:custGeom>
            <a:avLst/>
            <a:gdLst/>
            <a:ahLst/>
            <a:rect l="l" t="t" r="r" b="b"/>
            <a:pathLst>
              <a:path w="50" h="2135">
                <a:moveTo>
                  <a:pt x="5531" y="9351"/>
                </a:moveTo>
                <a:cubicBezTo>
                  <a:pt x="5604" y="9546"/>
                  <a:pt x="5556" y="9850"/>
                  <a:pt x="5556" y="10046"/>
                </a:cubicBezTo>
                <a:cubicBezTo>
                  <a:pt x="5556" y="10494"/>
                  <a:pt x="5515" y="10938"/>
                  <a:pt x="5507" y="11385"/>
                </a:cubicBezTo>
                <a:cubicBezTo>
                  <a:pt x="5507" y="11418"/>
                  <a:pt x="5507" y="11452"/>
                  <a:pt x="5507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87720" y="3402000"/>
            <a:ext cx="500040" cy="662040"/>
          </a:xfrm>
          <a:custGeom>
            <a:avLst/>
            <a:gdLst/>
            <a:ahLst/>
            <a:rect l="l" t="t" r="r" b="b"/>
            <a:pathLst>
              <a:path w="1390" h="1836">
                <a:moveTo>
                  <a:pt x="6077" y="9897"/>
                </a:moveTo>
                <a:cubicBezTo>
                  <a:pt x="6189" y="9990"/>
                  <a:pt x="6111" y="10295"/>
                  <a:pt x="6102" y="10468"/>
                </a:cubicBezTo>
                <a:cubicBezTo>
                  <a:pt x="6102" y="10501"/>
                  <a:pt x="6102" y="10534"/>
                  <a:pt x="6102" y="10567"/>
                </a:cubicBezTo>
              </a:path>
              <a:path w="1390" h="1836">
                <a:moveTo>
                  <a:pt x="6548" y="10096"/>
                </a:moveTo>
                <a:cubicBezTo>
                  <a:pt x="6721" y="10055"/>
                  <a:pt x="6845" y="10052"/>
                  <a:pt x="7020" y="10071"/>
                </a:cubicBezTo>
                <a:cubicBezTo>
                  <a:pt x="7061" y="10071"/>
                  <a:pt x="7069" y="10071"/>
                  <a:pt x="7094" y="10071"/>
                </a:cubicBezTo>
                <a:cubicBezTo>
                  <a:pt x="7060" y="10224"/>
                  <a:pt x="6943" y="10359"/>
                  <a:pt x="6896" y="10517"/>
                </a:cubicBezTo>
                <a:cubicBezTo>
                  <a:pt x="6896" y="10534"/>
                  <a:pt x="6896" y="10550"/>
                  <a:pt x="6896" y="10567"/>
                </a:cubicBezTo>
              </a:path>
              <a:path w="1390" h="1836">
                <a:moveTo>
                  <a:pt x="7466" y="9451"/>
                </a:moveTo>
                <a:cubicBezTo>
                  <a:pt x="7437" y="9857"/>
                  <a:pt x="7466" y="10279"/>
                  <a:pt x="7466" y="10691"/>
                </a:cubicBezTo>
                <a:cubicBezTo>
                  <a:pt x="7466" y="10896"/>
                  <a:pt x="7453" y="11084"/>
                  <a:pt x="7441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38320" y="3598920"/>
            <a:ext cx="722520" cy="223920"/>
          </a:xfrm>
          <a:custGeom>
            <a:avLst/>
            <a:gdLst/>
            <a:ahLst/>
            <a:rect l="l" t="t" r="r" b="b"/>
            <a:pathLst>
              <a:path w="2010" h="621">
                <a:moveTo>
                  <a:pt x="8161" y="10319"/>
                </a:moveTo>
                <a:lnTo>
                  <a:pt x="8161" y="10319"/>
                </a:lnTo>
              </a:path>
              <a:path w="2010" h="621">
                <a:moveTo>
                  <a:pt x="8161" y="10418"/>
                </a:moveTo>
                <a:cubicBezTo>
                  <a:pt x="8336" y="10391"/>
                  <a:pt x="8506" y="10327"/>
                  <a:pt x="8682" y="10294"/>
                </a:cubicBezTo>
                <a:cubicBezTo>
                  <a:pt x="8690" y="10294"/>
                  <a:pt x="8698" y="10294"/>
                  <a:pt x="8706" y="10294"/>
                </a:cubicBezTo>
              </a:path>
              <a:path w="2010" h="621">
                <a:moveTo>
                  <a:pt x="9203" y="10071"/>
                </a:moveTo>
                <a:cubicBezTo>
                  <a:pt x="9203" y="10177"/>
                  <a:pt x="9161" y="10701"/>
                  <a:pt x="9227" y="10542"/>
                </a:cubicBezTo>
              </a:path>
              <a:path w="2010" h="621">
                <a:moveTo>
                  <a:pt x="9550" y="10096"/>
                </a:moveTo>
                <a:cubicBezTo>
                  <a:pt x="9737" y="10054"/>
                  <a:pt x="9929" y="10019"/>
                  <a:pt x="10120" y="9996"/>
                </a:cubicBezTo>
                <a:cubicBezTo>
                  <a:pt x="10137" y="9996"/>
                  <a:pt x="10153" y="9996"/>
                  <a:pt x="10170" y="9996"/>
                </a:cubicBezTo>
                <a:cubicBezTo>
                  <a:pt x="10138" y="10202"/>
                  <a:pt x="10058" y="10379"/>
                  <a:pt x="9971" y="10567"/>
                </a:cubicBezTo>
              </a:path>
              <a:path w="2010" h="621">
                <a:moveTo>
                  <a:pt x="8161" y="10071"/>
                </a:moveTo>
                <a:cubicBezTo>
                  <a:pt x="8351" y="10071"/>
                  <a:pt x="8541" y="10071"/>
                  <a:pt x="8731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94200" y="3340080"/>
            <a:ext cx="830160" cy="527040"/>
          </a:xfrm>
          <a:custGeom>
            <a:avLst/>
            <a:gdLst/>
            <a:ahLst/>
            <a:rect l="l" t="t" r="r" b="b"/>
            <a:pathLst>
              <a:path w="2308" h="1464">
                <a:moveTo>
                  <a:pt x="13940" y="10021"/>
                </a:moveTo>
                <a:cubicBezTo>
                  <a:pt x="14130" y="10005"/>
                  <a:pt x="14321" y="9985"/>
                  <a:pt x="14511" y="9971"/>
                </a:cubicBezTo>
                <a:cubicBezTo>
                  <a:pt x="14536" y="9971"/>
                  <a:pt x="14560" y="9971"/>
                  <a:pt x="14585" y="9971"/>
                </a:cubicBezTo>
              </a:path>
              <a:path w="2308" h="1464">
                <a:moveTo>
                  <a:pt x="13717" y="9277"/>
                </a:moveTo>
                <a:cubicBezTo>
                  <a:pt x="13656" y="9581"/>
                  <a:pt x="13640" y="9901"/>
                  <a:pt x="13618" y="10220"/>
                </a:cubicBezTo>
                <a:cubicBezTo>
                  <a:pt x="13604" y="10414"/>
                  <a:pt x="13573" y="10563"/>
                  <a:pt x="13618" y="10740"/>
                </a:cubicBezTo>
              </a:path>
              <a:path w="2308" h="1464">
                <a:moveTo>
                  <a:pt x="15131" y="9723"/>
                </a:moveTo>
                <a:cubicBezTo>
                  <a:pt x="15083" y="9922"/>
                  <a:pt x="15045" y="10115"/>
                  <a:pt x="15032" y="10319"/>
                </a:cubicBezTo>
              </a:path>
              <a:path w="2308" h="1464">
                <a:moveTo>
                  <a:pt x="15329" y="9624"/>
                </a:moveTo>
                <a:cubicBezTo>
                  <a:pt x="15492" y="9624"/>
                  <a:pt x="15641" y="9631"/>
                  <a:pt x="15801" y="9624"/>
                </a:cubicBezTo>
                <a:cubicBezTo>
                  <a:pt x="15834" y="9624"/>
                  <a:pt x="15867" y="9624"/>
                  <a:pt x="15900" y="9624"/>
                </a:cubicBezTo>
                <a:cubicBezTo>
                  <a:pt x="15862" y="9859"/>
                  <a:pt x="15782" y="10087"/>
                  <a:pt x="15751" y="103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02200" y="3241800"/>
            <a:ext cx="19080" cy="527040"/>
          </a:xfrm>
          <a:custGeom>
            <a:avLst/>
            <a:gdLst/>
            <a:ahLst/>
            <a:rect l="l" t="t" r="r" b="b"/>
            <a:pathLst>
              <a:path w="51" h="1465">
                <a:moveTo>
                  <a:pt x="16396" y="9004"/>
                </a:moveTo>
                <a:cubicBezTo>
                  <a:pt x="16480" y="9338"/>
                  <a:pt x="16446" y="9700"/>
                  <a:pt x="16446" y="10046"/>
                </a:cubicBezTo>
                <a:cubicBezTo>
                  <a:pt x="16446" y="10278"/>
                  <a:pt x="16446" y="10327"/>
                  <a:pt x="16446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26120" y="3517920"/>
            <a:ext cx="152280" cy="108000"/>
          </a:xfrm>
          <a:custGeom>
            <a:avLst/>
            <a:gdLst/>
            <a:ahLst/>
            <a:rect l="l" t="t" r="r" b="b"/>
            <a:pathLst>
              <a:path w="423" h="299">
                <a:moveTo>
                  <a:pt x="17016" y="9773"/>
                </a:moveTo>
                <a:cubicBezTo>
                  <a:pt x="17136" y="9786"/>
                  <a:pt x="17239" y="9781"/>
                  <a:pt x="17363" y="9773"/>
                </a:cubicBezTo>
              </a:path>
              <a:path w="423" h="299">
                <a:moveTo>
                  <a:pt x="17140" y="10071"/>
                </a:moveTo>
                <a:cubicBezTo>
                  <a:pt x="17297" y="10048"/>
                  <a:pt x="17338" y="10040"/>
                  <a:pt x="17438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53160" y="3438360"/>
            <a:ext cx="357120" cy="258840"/>
          </a:xfrm>
          <a:custGeom>
            <a:avLst/>
            <a:gdLst/>
            <a:ahLst/>
            <a:rect l="l" t="t" r="r" b="b"/>
            <a:pathLst>
              <a:path w="994" h="720">
                <a:moveTo>
                  <a:pt x="18479" y="9575"/>
                </a:moveTo>
                <a:cubicBezTo>
                  <a:pt x="18646" y="9574"/>
                  <a:pt x="18535" y="9961"/>
                  <a:pt x="18529" y="10096"/>
                </a:cubicBezTo>
                <a:cubicBezTo>
                  <a:pt x="18529" y="10206"/>
                  <a:pt x="18556" y="10229"/>
                  <a:pt x="18504" y="10269"/>
                </a:cubicBezTo>
              </a:path>
              <a:path w="994" h="720">
                <a:moveTo>
                  <a:pt x="18802" y="9575"/>
                </a:moveTo>
                <a:cubicBezTo>
                  <a:pt x="19017" y="9575"/>
                  <a:pt x="19232" y="9575"/>
                  <a:pt x="19447" y="9575"/>
                </a:cubicBezTo>
                <a:cubicBezTo>
                  <a:pt x="19459" y="9794"/>
                  <a:pt x="19371" y="9998"/>
                  <a:pt x="19348" y="10220"/>
                </a:cubicBezTo>
                <a:cubicBezTo>
                  <a:pt x="19348" y="10228"/>
                  <a:pt x="19348" y="10236"/>
                  <a:pt x="19348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1320" y="6116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086" y="16991"/>
                </a:moveTo>
                <a:lnTo>
                  <a:pt x="8086" y="1699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62160" y="6045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508" y="16793"/>
                </a:moveTo>
                <a:lnTo>
                  <a:pt x="8508" y="1679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41840" y="5626080"/>
            <a:ext cx="160200" cy="115920"/>
          </a:xfrm>
          <a:custGeom>
            <a:avLst/>
            <a:gdLst/>
            <a:ahLst/>
            <a:rect l="l" t="t" r="r" b="b"/>
            <a:pathLst>
              <a:path w="448" h="323">
                <a:moveTo>
                  <a:pt x="10840" y="15652"/>
                </a:moveTo>
                <a:cubicBezTo>
                  <a:pt x="10649" y="15629"/>
                  <a:pt x="10563" y="15686"/>
                  <a:pt x="10393" y="15776"/>
                </a:cubicBezTo>
                <a:cubicBezTo>
                  <a:pt x="10452" y="15893"/>
                  <a:pt x="10482" y="15934"/>
                  <a:pt x="10616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25960" y="5840280"/>
            <a:ext cx="231840" cy="347760"/>
          </a:xfrm>
          <a:custGeom>
            <a:avLst/>
            <a:gdLst/>
            <a:ahLst/>
            <a:rect l="l" t="t" r="r" b="b"/>
            <a:pathLst>
              <a:path w="646" h="969">
                <a:moveTo>
                  <a:pt x="11485" y="16545"/>
                </a:moveTo>
                <a:cubicBezTo>
                  <a:pt x="11423" y="16380"/>
                  <a:pt x="11671" y="16398"/>
                  <a:pt x="11807" y="16346"/>
                </a:cubicBezTo>
                <a:cubicBezTo>
                  <a:pt x="11964" y="16279"/>
                  <a:pt x="12005" y="16261"/>
                  <a:pt x="12105" y="16222"/>
                </a:cubicBezTo>
                <a:cubicBezTo>
                  <a:pt x="11973" y="16544"/>
                  <a:pt x="11845" y="16853"/>
                  <a:pt x="11757" y="171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95320" y="5803920"/>
            <a:ext cx="142920" cy="287280"/>
          </a:xfrm>
          <a:custGeom>
            <a:avLst/>
            <a:gdLst/>
            <a:ahLst/>
            <a:rect l="l" t="t" r="r" b="b"/>
            <a:pathLst>
              <a:path w="398" h="795">
                <a:moveTo>
                  <a:pt x="5283" y="16197"/>
                </a:moveTo>
                <a:cubicBezTo>
                  <a:pt x="5222" y="16056"/>
                  <a:pt x="5100" y="16162"/>
                  <a:pt x="4986" y="16222"/>
                </a:cubicBezTo>
                <a:cubicBezTo>
                  <a:pt x="5027" y="16431"/>
                  <a:pt x="5230" y="16479"/>
                  <a:pt x="5308" y="16669"/>
                </a:cubicBezTo>
                <a:cubicBezTo>
                  <a:pt x="5362" y="16800"/>
                  <a:pt x="5290" y="16856"/>
                  <a:pt x="5209" y="16917"/>
                </a:cubicBezTo>
                <a:cubicBezTo>
                  <a:pt x="5067" y="16725"/>
                  <a:pt x="5183" y="16530"/>
                  <a:pt x="5308" y="16321"/>
                </a:cubicBezTo>
                <a:cubicBezTo>
                  <a:pt x="5368" y="16242"/>
                  <a:pt x="5393" y="16234"/>
                  <a:pt x="5383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23080" y="5823000"/>
            <a:ext cx="133200" cy="22212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19224" y="16173"/>
                </a:moveTo>
                <a:cubicBezTo>
                  <a:pt x="19036" y="16343"/>
                  <a:pt x="18983" y="16474"/>
                  <a:pt x="18951" y="16718"/>
                </a:cubicBezTo>
                <a:cubicBezTo>
                  <a:pt x="19153" y="16807"/>
                  <a:pt x="19375" y="16715"/>
                  <a:pt x="19323" y="16421"/>
                </a:cubicBezTo>
                <a:cubicBezTo>
                  <a:pt x="19260" y="16295"/>
                  <a:pt x="19256" y="16260"/>
                  <a:pt x="19174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8240" y="2071800"/>
            <a:ext cx="2724120" cy="115920"/>
          </a:xfrm>
          <a:custGeom>
            <a:avLst/>
            <a:gdLst/>
            <a:ahLst/>
            <a:rect l="l" t="t" r="r" b="b"/>
            <a:pathLst>
              <a:path w="7567" h="323">
                <a:moveTo>
                  <a:pt x="2133" y="5978"/>
                </a:moveTo>
                <a:cubicBezTo>
                  <a:pt x="2209" y="5996"/>
                  <a:pt x="2249" y="6021"/>
                  <a:pt x="2332" y="6028"/>
                </a:cubicBezTo>
                <a:cubicBezTo>
                  <a:pt x="2405" y="6034"/>
                  <a:pt x="2462" y="6042"/>
                  <a:pt x="2530" y="6052"/>
                </a:cubicBezTo>
                <a:cubicBezTo>
                  <a:pt x="2597" y="6062"/>
                  <a:pt x="2663" y="6072"/>
                  <a:pt x="2729" y="6077"/>
                </a:cubicBezTo>
                <a:cubicBezTo>
                  <a:pt x="2858" y="6086"/>
                  <a:pt x="2976" y="6060"/>
                  <a:pt x="3101" y="6052"/>
                </a:cubicBezTo>
                <a:cubicBezTo>
                  <a:pt x="3217" y="6045"/>
                  <a:pt x="3333" y="6042"/>
                  <a:pt x="3448" y="6028"/>
                </a:cubicBezTo>
                <a:cubicBezTo>
                  <a:pt x="3541" y="6017"/>
                  <a:pt x="3628" y="6008"/>
                  <a:pt x="3721" y="6003"/>
                </a:cubicBezTo>
                <a:cubicBezTo>
                  <a:pt x="3880" y="5994"/>
                  <a:pt x="4035" y="6000"/>
                  <a:pt x="4192" y="5978"/>
                </a:cubicBezTo>
                <a:cubicBezTo>
                  <a:pt x="4299" y="5963"/>
                  <a:pt x="4406" y="5966"/>
                  <a:pt x="4514" y="5953"/>
                </a:cubicBezTo>
                <a:cubicBezTo>
                  <a:pt x="4613" y="5941"/>
                  <a:pt x="4716" y="5911"/>
                  <a:pt x="4812" y="5904"/>
                </a:cubicBezTo>
                <a:cubicBezTo>
                  <a:pt x="4961" y="5893"/>
                  <a:pt x="5118" y="5933"/>
                  <a:pt x="5259" y="5928"/>
                </a:cubicBezTo>
                <a:cubicBezTo>
                  <a:pt x="5366" y="5924"/>
                  <a:pt x="5468" y="5893"/>
                  <a:pt x="5581" y="5904"/>
                </a:cubicBezTo>
                <a:cubicBezTo>
                  <a:pt x="5651" y="5911"/>
                  <a:pt x="5706" y="5930"/>
                  <a:pt x="5779" y="5928"/>
                </a:cubicBezTo>
                <a:cubicBezTo>
                  <a:pt x="5866" y="5925"/>
                  <a:pt x="5942" y="5909"/>
                  <a:pt x="6028" y="5904"/>
                </a:cubicBezTo>
                <a:cubicBezTo>
                  <a:pt x="6173" y="5896"/>
                  <a:pt x="6307" y="5920"/>
                  <a:pt x="6449" y="5928"/>
                </a:cubicBezTo>
                <a:cubicBezTo>
                  <a:pt x="6851" y="5950"/>
                  <a:pt x="7269" y="5927"/>
                  <a:pt x="7665" y="5904"/>
                </a:cubicBezTo>
                <a:cubicBezTo>
                  <a:pt x="7831" y="5895"/>
                  <a:pt x="7997" y="5887"/>
                  <a:pt x="8161" y="5879"/>
                </a:cubicBezTo>
                <a:cubicBezTo>
                  <a:pt x="8280" y="5873"/>
                  <a:pt x="8391" y="5868"/>
                  <a:pt x="8508" y="5854"/>
                </a:cubicBezTo>
                <a:cubicBezTo>
                  <a:pt x="8623" y="5840"/>
                  <a:pt x="8739" y="5841"/>
                  <a:pt x="8855" y="5829"/>
                </a:cubicBezTo>
                <a:cubicBezTo>
                  <a:pt x="8953" y="5818"/>
                  <a:pt x="9055" y="5816"/>
                  <a:pt x="9153" y="5804"/>
                </a:cubicBezTo>
                <a:cubicBezTo>
                  <a:pt x="9218" y="5796"/>
                  <a:pt x="9267" y="5783"/>
                  <a:pt x="9327" y="5779"/>
                </a:cubicBezTo>
                <a:cubicBezTo>
                  <a:pt x="9453" y="5772"/>
                  <a:pt x="9585" y="5769"/>
                  <a:pt x="9699" y="57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45040" y="1108080"/>
            <a:ext cx="3591000" cy="214200"/>
          </a:xfrm>
          <a:custGeom>
            <a:avLst/>
            <a:gdLst/>
            <a:ahLst/>
            <a:rect l="l" t="t" r="r" b="b"/>
            <a:pathLst>
              <a:path w="9972" h="596">
                <a:moveTo>
                  <a:pt x="14015" y="3646"/>
                </a:moveTo>
                <a:cubicBezTo>
                  <a:pt x="14148" y="3655"/>
                  <a:pt x="14251" y="3659"/>
                  <a:pt x="14387" y="3646"/>
                </a:cubicBezTo>
                <a:cubicBezTo>
                  <a:pt x="14519" y="3634"/>
                  <a:pt x="14654" y="3615"/>
                  <a:pt x="14784" y="3597"/>
                </a:cubicBezTo>
                <a:cubicBezTo>
                  <a:pt x="14901" y="3581"/>
                  <a:pt x="15012" y="3581"/>
                  <a:pt x="15131" y="3572"/>
                </a:cubicBezTo>
                <a:cubicBezTo>
                  <a:pt x="15337" y="3556"/>
                  <a:pt x="15544" y="3531"/>
                  <a:pt x="15751" y="3522"/>
                </a:cubicBezTo>
                <a:cubicBezTo>
                  <a:pt x="16074" y="3507"/>
                  <a:pt x="16396" y="3523"/>
                  <a:pt x="16718" y="3497"/>
                </a:cubicBezTo>
                <a:cubicBezTo>
                  <a:pt x="17132" y="3463"/>
                  <a:pt x="17544" y="3464"/>
                  <a:pt x="17959" y="3423"/>
                </a:cubicBezTo>
                <a:cubicBezTo>
                  <a:pt x="18330" y="3386"/>
                  <a:pt x="18706" y="3371"/>
                  <a:pt x="19075" y="3324"/>
                </a:cubicBezTo>
                <a:cubicBezTo>
                  <a:pt x="19390" y="3284"/>
                  <a:pt x="19702" y="3254"/>
                  <a:pt x="20017" y="3225"/>
                </a:cubicBezTo>
                <a:cubicBezTo>
                  <a:pt x="20259" y="3203"/>
                  <a:pt x="20495" y="3192"/>
                  <a:pt x="20737" y="3175"/>
                </a:cubicBezTo>
                <a:cubicBezTo>
                  <a:pt x="21076" y="3151"/>
                  <a:pt x="21413" y="3150"/>
                  <a:pt x="21754" y="3150"/>
                </a:cubicBezTo>
                <a:cubicBezTo>
                  <a:pt x="22144" y="3150"/>
                  <a:pt x="22534" y="3140"/>
                  <a:pt x="22920" y="3125"/>
                </a:cubicBezTo>
                <a:cubicBezTo>
                  <a:pt x="23192" y="3115"/>
                  <a:pt x="23467" y="3123"/>
                  <a:pt x="23738" y="3101"/>
                </a:cubicBezTo>
                <a:cubicBezTo>
                  <a:pt x="23826" y="3094"/>
                  <a:pt x="23912" y="3096"/>
                  <a:pt x="23986" y="31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Objective:  Students will add and subtract integers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sign – add the absolute values and use the common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igns – subtract the absolute values and use the sign of the integer with the greater absolut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ites – the sum of an integer and itself is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89680" y="2276640"/>
            <a:ext cx="804600" cy="974520"/>
          </a:xfrm>
          <a:custGeom>
            <a:avLst/>
            <a:gdLst/>
            <a:ahLst/>
            <a:rect l="l" t="t" r="r" b="b"/>
            <a:pathLst>
              <a:path w="2233" h="2705">
                <a:moveTo>
                  <a:pt x="15106" y="6548"/>
                </a:moveTo>
                <a:cubicBezTo>
                  <a:pt x="15106" y="6398"/>
                  <a:pt x="15106" y="6942"/>
                  <a:pt x="15106" y="6945"/>
                </a:cubicBezTo>
                <a:cubicBezTo>
                  <a:pt x="15106" y="7028"/>
                  <a:pt x="15106" y="7044"/>
                  <a:pt x="15106" y="7094"/>
                </a:cubicBezTo>
              </a:path>
              <a:path w="2233" h="2705">
                <a:moveTo>
                  <a:pt x="15478" y="6449"/>
                </a:moveTo>
                <a:cubicBezTo>
                  <a:pt x="15520" y="6352"/>
                  <a:pt x="15634" y="6342"/>
                  <a:pt x="15751" y="6325"/>
                </a:cubicBezTo>
                <a:cubicBezTo>
                  <a:pt x="15751" y="6508"/>
                  <a:pt x="15693" y="6626"/>
                  <a:pt x="15577" y="6772"/>
                </a:cubicBezTo>
                <a:cubicBezTo>
                  <a:pt x="15544" y="6805"/>
                  <a:pt x="15511" y="6838"/>
                  <a:pt x="15478" y="6871"/>
                </a:cubicBezTo>
                <a:cubicBezTo>
                  <a:pt x="15395" y="6899"/>
                  <a:pt x="15551" y="6823"/>
                  <a:pt x="15627" y="6821"/>
                </a:cubicBezTo>
                <a:cubicBezTo>
                  <a:pt x="15742" y="6818"/>
                  <a:pt x="15838" y="6820"/>
                  <a:pt x="15949" y="6796"/>
                </a:cubicBezTo>
              </a:path>
              <a:path w="2233" h="2705">
                <a:moveTo>
                  <a:pt x="14288" y="7367"/>
                </a:moveTo>
                <a:cubicBezTo>
                  <a:pt x="14301" y="7542"/>
                  <a:pt x="14312" y="7712"/>
                  <a:pt x="14312" y="7888"/>
                </a:cubicBezTo>
              </a:path>
              <a:path w="2233" h="2705">
                <a:moveTo>
                  <a:pt x="14139" y="7665"/>
                </a:moveTo>
                <a:cubicBezTo>
                  <a:pt x="14261" y="7617"/>
                  <a:pt x="14380" y="7580"/>
                  <a:pt x="14511" y="7565"/>
                </a:cubicBezTo>
              </a:path>
              <a:path w="2233" h="2705">
                <a:moveTo>
                  <a:pt x="15255" y="7491"/>
                </a:moveTo>
                <a:cubicBezTo>
                  <a:pt x="15240" y="7636"/>
                  <a:pt x="15230" y="7768"/>
                  <a:pt x="15230" y="7913"/>
                </a:cubicBezTo>
              </a:path>
              <a:path w="2233" h="2705">
                <a:moveTo>
                  <a:pt x="15825" y="7317"/>
                </a:moveTo>
                <a:cubicBezTo>
                  <a:pt x="15736" y="7359"/>
                  <a:pt x="15562" y="7374"/>
                  <a:pt x="15528" y="7466"/>
                </a:cubicBezTo>
                <a:cubicBezTo>
                  <a:pt x="15514" y="7504"/>
                  <a:pt x="15528" y="7596"/>
                  <a:pt x="15528" y="7640"/>
                </a:cubicBezTo>
                <a:cubicBezTo>
                  <a:pt x="15637" y="7622"/>
                  <a:pt x="15709" y="7555"/>
                  <a:pt x="15825" y="7565"/>
                </a:cubicBezTo>
                <a:cubicBezTo>
                  <a:pt x="15858" y="7573"/>
                  <a:pt x="15892" y="7582"/>
                  <a:pt x="15925" y="7590"/>
                </a:cubicBezTo>
                <a:cubicBezTo>
                  <a:pt x="15938" y="7789"/>
                  <a:pt x="15859" y="7857"/>
                  <a:pt x="15652" y="7888"/>
                </a:cubicBezTo>
                <a:cubicBezTo>
                  <a:pt x="15619" y="7888"/>
                  <a:pt x="15586" y="7888"/>
                  <a:pt x="15553" y="7888"/>
                </a:cubicBezTo>
              </a:path>
              <a:path w="2233" h="2705">
                <a:moveTo>
                  <a:pt x="14412" y="8161"/>
                </a:moveTo>
                <a:cubicBezTo>
                  <a:pt x="14669" y="8153"/>
                  <a:pt x="14923" y="8129"/>
                  <a:pt x="15180" y="8111"/>
                </a:cubicBezTo>
                <a:cubicBezTo>
                  <a:pt x="15567" y="8084"/>
                  <a:pt x="15936" y="8076"/>
                  <a:pt x="16321" y="8086"/>
                </a:cubicBezTo>
                <a:cubicBezTo>
                  <a:pt x="16338" y="8086"/>
                  <a:pt x="16354" y="8086"/>
                  <a:pt x="16371" y="8086"/>
                </a:cubicBezTo>
              </a:path>
              <a:path w="2233" h="2705">
                <a:moveTo>
                  <a:pt x="15056" y="8483"/>
                </a:moveTo>
                <a:cubicBezTo>
                  <a:pt x="15089" y="8458"/>
                  <a:pt x="15123" y="8434"/>
                  <a:pt x="15156" y="8409"/>
                </a:cubicBezTo>
                <a:cubicBezTo>
                  <a:pt x="15282" y="8619"/>
                  <a:pt x="15206" y="8785"/>
                  <a:pt x="15007" y="8954"/>
                </a:cubicBezTo>
                <a:cubicBezTo>
                  <a:pt x="14974" y="8971"/>
                  <a:pt x="14941" y="8987"/>
                  <a:pt x="14908" y="9004"/>
                </a:cubicBezTo>
                <a:cubicBezTo>
                  <a:pt x="14864" y="8893"/>
                  <a:pt x="14828" y="8752"/>
                  <a:pt x="15007" y="8731"/>
                </a:cubicBezTo>
                <a:cubicBezTo>
                  <a:pt x="15138" y="8716"/>
                  <a:pt x="15208" y="8858"/>
                  <a:pt x="15230" y="8954"/>
                </a:cubicBezTo>
              </a:path>
              <a:path w="2233" h="2705">
                <a:moveTo>
                  <a:pt x="15453" y="8533"/>
                </a:moveTo>
                <a:cubicBezTo>
                  <a:pt x="15453" y="8669"/>
                  <a:pt x="15453" y="8482"/>
                  <a:pt x="15453" y="8458"/>
                </a:cubicBezTo>
                <a:cubicBezTo>
                  <a:pt x="15553" y="8447"/>
                  <a:pt x="15654" y="8437"/>
                  <a:pt x="15751" y="8409"/>
                </a:cubicBezTo>
                <a:cubicBezTo>
                  <a:pt x="15816" y="8387"/>
                  <a:pt x="15831" y="8379"/>
                  <a:pt x="15875" y="8384"/>
                </a:cubicBezTo>
                <a:cubicBezTo>
                  <a:pt x="15860" y="8612"/>
                  <a:pt x="15819" y="8810"/>
                  <a:pt x="15751" y="90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2680" y="2143080"/>
            <a:ext cx="2071440" cy="992160"/>
          </a:xfrm>
          <a:custGeom>
            <a:avLst/>
            <a:gdLst/>
            <a:ahLst/>
            <a:rect l="l" t="t" r="r" b="b"/>
            <a:pathLst>
              <a:path w="5755" h="2754">
                <a:moveTo>
                  <a:pt x="18678" y="6697"/>
                </a:moveTo>
                <a:cubicBezTo>
                  <a:pt x="18785" y="6678"/>
                  <a:pt x="18892" y="6658"/>
                  <a:pt x="19000" y="6648"/>
                </a:cubicBezTo>
              </a:path>
              <a:path w="5755" h="2754">
                <a:moveTo>
                  <a:pt x="19323" y="6400"/>
                </a:moveTo>
                <a:cubicBezTo>
                  <a:pt x="19323" y="6550"/>
                  <a:pt x="19341" y="6696"/>
                  <a:pt x="19348" y="6846"/>
                </a:cubicBezTo>
              </a:path>
              <a:path w="5755" h="2754">
                <a:moveTo>
                  <a:pt x="19695" y="6350"/>
                </a:moveTo>
                <a:cubicBezTo>
                  <a:pt x="19786" y="6340"/>
                  <a:pt x="20012" y="6291"/>
                  <a:pt x="20017" y="6449"/>
                </a:cubicBezTo>
                <a:cubicBezTo>
                  <a:pt x="20022" y="6608"/>
                  <a:pt x="19867" y="6737"/>
                  <a:pt x="19769" y="6846"/>
                </a:cubicBezTo>
                <a:cubicBezTo>
                  <a:pt x="19894" y="6833"/>
                  <a:pt x="20018" y="6800"/>
                  <a:pt x="20141" y="6772"/>
                </a:cubicBezTo>
              </a:path>
              <a:path w="5755" h="2754">
                <a:moveTo>
                  <a:pt x="17636" y="7268"/>
                </a:moveTo>
                <a:cubicBezTo>
                  <a:pt x="17659" y="7402"/>
                  <a:pt x="17678" y="7530"/>
                  <a:pt x="17686" y="7665"/>
                </a:cubicBezTo>
              </a:path>
              <a:path w="5755" h="2754">
                <a:moveTo>
                  <a:pt x="17438" y="7491"/>
                </a:moveTo>
                <a:cubicBezTo>
                  <a:pt x="17581" y="7491"/>
                  <a:pt x="17717" y="7472"/>
                  <a:pt x="17859" y="7466"/>
                </a:cubicBezTo>
                <a:cubicBezTo>
                  <a:pt x="17867" y="7466"/>
                  <a:pt x="17876" y="7466"/>
                  <a:pt x="17884" y="7466"/>
                </a:cubicBezTo>
              </a:path>
              <a:path w="5755" h="2754">
                <a:moveTo>
                  <a:pt x="18728" y="7615"/>
                </a:moveTo>
                <a:cubicBezTo>
                  <a:pt x="18855" y="7589"/>
                  <a:pt x="18970" y="7565"/>
                  <a:pt x="19100" y="7565"/>
                </a:cubicBezTo>
              </a:path>
              <a:path w="5755" h="2754">
                <a:moveTo>
                  <a:pt x="19348" y="7367"/>
                </a:moveTo>
                <a:cubicBezTo>
                  <a:pt x="19359" y="7518"/>
                  <a:pt x="19398" y="7686"/>
                  <a:pt x="19372" y="7838"/>
                </a:cubicBezTo>
                <a:cubicBezTo>
                  <a:pt x="19364" y="7855"/>
                  <a:pt x="19356" y="7871"/>
                  <a:pt x="19348" y="7888"/>
                </a:cubicBezTo>
              </a:path>
              <a:path w="5755" h="2754">
                <a:moveTo>
                  <a:pt x="19993" y="7218"/>
                </a:moveTo>
                <a:cubicBezTo>
                  <a:pt x="19940" y="7241"/>
                  <a:pt x="19757" y="7286"/>
                  <a:pt x="19745" y="7317"/>
                </a:cubicBezTo>
                <a:cubicBezTo>
                  <a:pt x="19723" y="7382"/>
                  <a:pt x="19715" y="7397"/>
                  <a:pt x="19720" y="7441"/>
                </a:cubicBezTo>
                <a:cubicBezTo>
                  <a:pt x="19805" y="7448"/>
                  <a:pt x="19976" y="7374"/>
                  <a:pt x="20042" y="7491"/>
                </a:cubicBezTo>
                <a:cubicBezTo>
                  <a:pt x="20159" y="7699"/>
                  <a:pt x="19938" y="7774"/>
                  <a:pt x="19794" y="7764"/>
                </a:cubicBezTo>
              </a:path>
              <a:path w="5755" h="2754">
                <a:moveTo>
                  <a:pt x="18281" y="8012"/>
                </a:moveTo>
                <a:cubicBezTo>
                  <a:pt x="18604" y="8026"/>
                  <a:pt x="18923" y="8037"/>
                  <a:pt x="19248" y="8037"/>
                </a:cubicBezTo>
                <a:cubicBezTo>
                  <a:pt x="19493" y="8037"/>
                  <a:pt x="19728" y="8044"/>
                  <a:pt x="19968" y="8037"/>
                </a:cubicBezTo>
                <a:cubicBezTo>
                  <a:pt x="20049" y="8035"/>
                  <a:pt x="20114" y="8027"/>
                  <a:pt x="20191" y="8012"/>
                </a:cubicBezTo>
              </a:path>
              <a:path w="5755" h="2754">
                <a:moveTo>
                  <a:pt x="17314" y="6747"/>
                </a:moveTo>
                <a:lnTo>
                  <a:pt x="17314" y="6747"/>
                </a:lnTo>
              </a:path>
              <a:path w="5755" h="2754">
                <a:moveTo>
                  <a:pt x="20563" y="6623"/>
                </a:moveTo>
                <a:cubicBezTo>
                  <a:pt x="20693" y="6558"/>
                  <a:pt x="20810" y="6621"/>
                  <a:pt x="20960" y="6672"/>
                </a:cubicBezTo>
                <a:cubicBezTo>
                  <a:pt x="21025" y="6694"/>
                  <a:pt x="21040" y="6702"/>
                  <a:pt x="21084" y="6697"/>
                </a:cubicBezTo>
              </a:path>
              <a:path w="5755" h="2754">
                <a:moveTo>
                  <a:pt x="20935" y="6499"/>
                </a:moveTo>
                <a:cubicBezTo>
                  <a:pt x="21027" y="6559"/>
                  <a:pt x="21108" y="6602"/>
                  <a:pt x="21208" y="6648"/>
                </a:cubicBezTo>
                <a:cubicBezTo>
                  <a:pt x="21161" y="6751"/>
                  <a:pt x="21073" y="6832"/>
                  <a:pt x="20985" y="6921"/>
                </a:cubicBezTo>
              </a:path>
              <a:path w="5755" h="2754">
                <a:moveTo>
                  <a:pt x="21729" y="6152"/>
                </a:moveTo>
                <a:cubicBezTo>
                  <a:pt x="21729" y="6367"/>
                  <a:pt x="21729" y="6581"/>
                  <a:pt x="21729" y="6796"/>
                </a:cubicBezTo>
              </a:path>
              <a:path w="5755" h="2754">
                <a:moveTo>
                  <a:pt x="22076" y="6226"/>
                </a:moveTo>
                <a:cubicBezTo>
                  <a:pt x="22054" y="6328"/>
                  <a:pt x="22051" y="6418"/>
                  <a:pt x="22051" y="6524"/>
                </a:cubicBezTo>
              </a:path>
              <a:path w="5755" h="2754">
                <a:moveTo>
                  <a:pt x="22200" y="6300"/>
                </a:moveTo>
                <a:cubicBezTo>
                  <a:pt x="22227" y="6294"/>
                  <a:pt x="22485" y="6236"/>
                  <a:pt x="22473" y="6325"/>
                </a:cubicBezTo>
                <a:cubicBezTo>
                  <a:pt x="22427" y="6440"/>
                  <a:pt x="22417" y="6475"/>
                  <a:pt x="22349" y="6524"/>
                </a:cubicBezTo>
                <a:cubicBezTo>
                  <a:pt x="22239" y="6632"/>
                  <a:pt x="22426" y="6573"/>
                  <a:pt x="22498" y="6573"/>
                </a:cubicBezTo>
              </a:path>
              <a:path w="5755" h="2754">
                <a:moveTo>
                  <a:pt x="22845" y="5953"/>
                </a:moveTo>
                <a:cubicBezTo>
                  <a:pt x="22845" y="6206"/>
                  <a:pt x="22871" y="6446"/>
                  <a:pt x="22895" y="6697"/>
                </a:cubicBezTo>
                <a:cubicBezTo>
                  <a:pt x="22895" y="6739"/>
                  <a:pt x="22895" y="6747"/>
                  <a:pt x="22895" y="6772"/>
                </a:cubicBezTo>
              </a:path>
              <a:path w="5755" h="2754">
                <a:moveTo>
                  <a:pt x="20687" y="7392"/>
                </a:moveTo>
                <a:cubicBezTo>
                  <a:pt x="20854" y="7443"/>
                  <a:pt x="20984" y="7421"/>
                  <a:pt x="21158" y="7417"/>
                </a:cubicBezTo>
                <a:cubicBezTo>
                  <a:pt x="21183" y="7417"/>
                  <a:pt x="21208" y="7417"/>
                  <a:pt x="21233" y="7417"/>
                </a:cubicBezTo>
              </a:path>
              <a:path w="5755" h="2754">
                <a:moveTo>
                  <a:pt x="21010" y="7243"/>
                </a:moveTo>
                <a:cubicBezTo>
                  <a:pt x="21138" y="7243"/>
                  <a:pt x="21235" y="7255"/>
                  <a:pt x="21357" y="7293"/>
                </a:cubicBezTo>
                <a:cubicBezTo>
                  <a:pt x="21373" y="7450"/>
                  <a:pt x="21260" y="7515"/>
                  <a:pt x="21134" y="7615"/>
                </a:cubicBezTo>
              </a:path>
              <a:path w="5755" h="2754">
                <a:moveTo>
                  <a:pt x="21729" y="7218"/>
                </a:moveTo>
                <a:cubicBezTo>
                  <a:pt x="21747" y="7432"/>
                  <a:pt x="21729" y="7645"/>
                  <a:pt x="21729" y="7863"/>
                </a:cubicBezTo>
                <a:cubicBezTo>
                  <a:pt x="21729" y="7855"/>
                  <a:pt x="21729" y="7846"/>
                  <a:pt x="21729" y="7838"/>
                </a:cubicBezTo>
              </a:path>
              <a:path w="5755" h="2754">
                <a:moveTo>
                  <a:pt x="22151" y="7268"/>
                </a:moveTo>
                <a:cubicBezTo>
                  <a:pt x="22126" y="7366"/>
                  <a:pt x="22126" y="7460"/>
                  <a:pt x="22126" y="7565"/>
                </a:cubicBezTo>
              </a:path>
              <a:path w="5755" h="2754">
                <a:moveTo>
                  <a:pt x="22572" y="7144"/>
                </a:moveTo>
                <a:cubicBezTo>
                  <a:pt x="22489" y="7172"/>
                  <a:pt x="22415" y="7170"/>
                  <a:pt x="22374" y="7243"/>
                </a:cubicBezTo>
                <a:cubicBezTo>
                  <a:pt x="22349" y="7293"/>
                  <a:pt x="22341" y="7309"/>
                  <a:pt x="22324" y="7342"/>
                </a:cubicBezTo>
                <a:cubicBezTo>
                  <a:pt x="22438" y="7332"/>
                  <a:pt x="22509" y="7314"/>
                  <a:pt x="22622" y="7342"/>
                </a:cubicBezTo>
                <a:cubicBezTo>
                  <a:pt x="22639" y="7514"/>
                  <a:pt x="22556" y="7506"/>
                  <a:pt x="22399" y="7516"/>
                </a:cubicBezTo>
              </a:path>
              <a:path w="5755" h="2754">
                <a:moveTo>
                  <a:pt x="22671" y="7020"/>
                </a:moveTo>
                <a:cubicBezTo>
                  <a:pt x="22798" y="7052"/>
                  <a:pt x="22788" y="7388"/>
                  <a:pt x="22796" y="7491"/>
                </a:cubicBezTo>
                <a:cubicBezTo>
                  <a:pt x="22796" y="7616"/>
                  <a:pt x="22789" y="7643"/>
                  <a:pt x="22820" y="7714"/>
                </a:cubicBezTo>
              </a:path>
              <a:path w="5755" h="2754">
                <a:moveTo>
                  <a:pt x="21580" y="7962"/>
                </a:moveTo>
                <a:cubicBezTo>
                  <a:pt x="21884" y="8023"/>
                  <a:pt x="22258" y="8001"/>
                  <a:pt x="22572" y="7987"/>
                </a:cubicBezTo>
                <a:cubicBezTo>
                  <a:pt x="22737" y="7980"/>
                  <a:pt x="22904" y="7953"/>
                  <a:pt x="23068" y="7938"/>
                </a:cubicBezTo>
              </a:path>
              <a:path w="5755" h="2754">
                <a:moveTo>
                  <a:pt x="21878" y="8260"/>
                </a:moveTo>
                <a:cubicBezTo>
                  <a:pt x="21894" y="8243"/>
                  <a:pt x="21911" y="8227"/>
                  <a:pt x="21927" y="8210"/>
                </a:cubicBezTo>
                <a:cubicBezTo>
                  <a:pt x="22109" y="8340"/>
                  <a:pt x="22124" y="8545"/>
                  <a:pt x="21878" y="8682"/>
                </a:cubicBezTo>
                <a:cubicBezTo>
                  <a:pt x="21766" y="8704"/>
                  <a:pt x="21735" y="8718"/>
                  <a:pt x="21679" y="8657"/>
                </a:cubicBezTo>
                <a:cubicBezTo>
                  <a:pt x="21719" y="8499"/>
                  <a:pt x="21846" y="8440"/>
                  <a:pt x="22027" y="8483"/>
                </a:cubicBezTo>
                <a:cubicBezTo>
                  <a:pt x="22096" y="8529"/>
                  <a:pt x="22116" y="8542"/>
                  <a:pt x="22151" y="8582"/>
                </a:cubicBezTo>
              </a:path>
              <a:path w="5755" h="2754">
                <a:moveTo>
                  <a:pt x="22324" y="8260"/>
                </a:moveTo>
                <a:cubicBezTo>
                  <a:pt x="22438" y="8227"/>
                  <a:pt x="22559" y="8202"/>
                  <a:pt x="22671" y="8186"/>
                </a:cubicBezTo>
                <a:cubicBezTo>
                  <a:pt x="22688" y="8186"/>
                  <a:pt x="22704" y="8186"/>
                  <a:pt x="22721" y="8186"/>
                </a:cubicBezTo>
                <a:cubicBezTo>
                  <a:pt x="22708" y="8363"/>
                  <a:pt x="22669" y="8513"/>
                  <a:pt x="22622" y="8682"/>
                </a:cubicBezTo>
              </a:path>
              <a:path w="5755" h="2754">
                <a:moveTo>
                  <a:pt x="20836" y="8384"/>
                </a:moveTo>
                <a:cubicBezTo>
                  <a:pt x="20819" y="8376"/>
                  <a:pt x="20803" y="8367"/>
                  <a:pt x="20786" y="8359"/>
                </a:cubicBezTo>
                <a:cubicBezTo>
                  <a:pt x="20914" y="8324"/>
                  <a:pt x="21047" y="8334"/>
                  <a:pt x="21183" y="8334"/>
                </a:cubicBezTo>
                <a:cubicBezTo>
                  <a:pt x="21216" y="8334"/>
                  <a:pt x="21233" y="8334"/>
                  <a:pt x="21258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76920" y="4330800"/>
            <a:ext cx="2108160" cy="1117440"/>
          </a:xfrm>
          <a:custGeom>
            <a:avLst/>
            <a:gdLst/>
            <a:ahLst/>
            <a:rect l="l" t="t" r="r" b="b"/>
            <a:pathLst>
              <a:path w="5855" h="3102">
                <a:moveTo>
                  <a:pt x="18033" y="12576"/>
                </a:moveTo>
                <a:cubicBezTo>
                  <a:pt x="17996" y="12390"/>
                  <a:pt x="17881" y="12334"/>
                  <a:pt x="17686" y="12452"/>
                </a:cubicBezTo>
                <a:cubicBezTo>
                  <a:pt x="17653" y="12485"/>
                  <a:pt x="17620" y="12518"/>
                  <a:pt x="17587" y="12551"/>
                </a:cubicBezTo>
                <a:cubicBezTo>
                  <a:pt x="17653" y="12762"/>
                  <a:pt x="17906" y="12753"/>
                  <a:pt x="17983" y="12948"/>
                </a:cubicBezTo>
                <a:cubicBezTo>
                  <a:pt x="18030" y="13067"/>
                  <a:pt x="17849" y="13153"/>
                  <a:pt x="17785" y="13196"/>
                </a:cubicBezTo>
                <a:cubicBezTo>
                  <a:pt x="17716" y="12940"/>
                  <a:pt x="17925" y="12834"/>
                  <a:pt x="18033" y="12601"/>
                </a:cubicBezTo>
                <a:cubicBezTo>
                  <a:pt x="18055" y="12494"/>
                  <a:pt x="18063" y="12470"/>
                  <a:pt x="18058" y="12402"/>
                </a:cubicBezTo>
              </a:path>
              <a:path w="5855" h="3102">
                <a:moveTo>
                  <a:pt x="16297" y="13444"/>
                </a:moveTo>
                <a:cubicBezTo>
                  <a:pt x="16320" y="13599"/>
                  <a:pt x="16380" y="13804"/>
                  <a:pt x="16346" y="13940"/>
                </a:cubicBezTo>
              </a:path>
              <a:path w="5855" h="3102">
                <a:moveTo>
                  <a:pt x="16049" y="13791"/>
                </a:moveTo>
                <a:cubicBezTo>
                  <a:pt x="16190" y="13745"/>
                  <a:pt x="16347" y="13694"/>
                  <a:pt x="16495" y="13667"/>
                </a:cubicBezTo>
                <a:cubicBezTo>
                  <a:pt x="16512" y="13667"/>
                  <a:pt x="16528" y="13667"/>
                  <a:pt x="16545" y="13667"/>
                </a:cubicBezTo>
              </a:path>
              <a:path w="5855" h="3102">
                <a:moveTo>
                  <a:pt x="17016" y="13593"/>
                </a:moveTo>
                <a:cubicBezTo>
                  <a:pt x="17125" y="13648"/>
                  <a:pt x="17191" y="13660"/>
                  <a:pt x="17314" y="13667"/>
                </a:cubicBezTo>
              </a:path>
              <a:path w="5855" h="3102">
                <a:moveTo>
                  <a:pt x="17983" y="13469"/>
                </a:moveTo>
                <a:cubicBezTo>
                  <a:pt x="17796" y="13519"/>
                  <a:pt x="17791" y="13554"/>
                  <a:pt x="17735" y="13742"/>
                </a:cubicBezTo>
                <a:cubicBezTo>
                  <a:pt x="17822" y="13751"/>
                  <a:pt x="17989" y="13661"/>
                  <a:pt x="18083" y="13742"/>
                </a:cubicBezTo>
                <a:cubicBezTo>
                  <a:pt x="18262" y="13896"/>
                  <a:pt x="17870" y="13962"/>
                  <a:pt x="17810" y="13965"/>
                </a:cubicBezTo>
                <a:cubicBezTo>
                  <a:pt x="17785" y="13965"/>
                  <a:pt x="17760" y="13965"/>
                  <a:pt x="17735" y="13965"/>
                </a:cubicBezTo>
              </a:path>
              <a:path w="5855" h="3102">
                <a:moveTo>
                  <a:pt x="16545" y="14288"/>
                </a:moveTo>
                <a:cubicBezTo>
                  <a:pt x="16718" y="14253"/>
                  <a:pt x="16954" y="14296"/>
                  <a:pt x="17140" y="14288"/>
                </a:cubicBezTo>
                <a:cubicBezTo>
                  <a:pt x="17599" y="14269"/>
                  <a:pt x="18046" y="14281"/>
                  <a:pt x="18504" y="14288"/>
                </a:cubicBezTo>
                <a:cubicBezTo>
                  <a:pt x="18562" y="14289"/>
                  <a:pt x="18620" y="14288"/>
                  <a:pt x="18678" y="14288"/>
                </a:cubicBezTo>
              </a:path>
              <a:path w="5855" h="3102">
                <a:moveTo>
                  <a:pt x="20662" y="12427"/>
                </a:moveTo>
                <a:cubicBezTo>
                  <a:pt x="20662" y="12343"/>
                  <a:pt x="20597" y="12932"/>
                  <a:pt x="20588" y="12998"/>
                </a:cubicBezTo>
                <a:cubicBezTo>
                  <a:pt x="20568" y="13173"/>
                  <a:pt x="20576" y="13201"/>
                  <a:pt x="20538" y="13295"/>
                </a:cubicBezTo>
              </a:path>
              <a:path w="5855" h="3102">
                <a:moveTo>
                  <a:pt x="21134" y="12650"/>
                </a:moveTo>
                <a:cubicBezTo>
                  <a:pt x="21108" y="12565"/>
                  <a:pt x="20928" y="12522"/>
                  <a:pt x="20861" y="12675"/>
                </a:cubicBezTo>
                <a:cubicBezTo>
                  <a:pt x="20824" y="12760"/>
                  <a:pt x="21009" y="12928"/>
                  <a:pt x="21010" y="13047"/>
                </a:cubicBezTo>
                <a:cubicBezTo>
                  <a:pt x="20985" y="13055"/>
                  <a:pt x="20960" y="13064"/>
                  <a:pt x="20935" y="13072"/>
                </a:cubicBezTo>
                <a:cubicBezTo>
                  <a:pt x="20921" y="12916"/>
                  <a:pt x="21004" y="12822"/>
                  <a:pt x="21109" y="12700"/>
                </a:cubicBezTo>
              </a:path>
              <a:path w="5855" h="3102">
                <a:moveTo>
                  <a:pt x="21431" y="12303"/>
                </a:moveTo>
                <a:cubicBezTo>
                  <a:pt x="21537" y="12058"/>
                  <a:pt x="21375" y="12788"/>
                  <a:pt x="21357" y="12874"/>
                </a:cubicBezTo>
                <a:cubicBezTo>
                  <a:pt x="21313" y="13049"/>
                  <a:pt x="21305" y="13093"/>
                  <a:pt x="21258" y="13196"/>
                </a:cubicBezTo>
              </a:path>
              <a:path w="5855" h="3102">
                <a:moveTo>
                  <a:pt x="20538" y="13568"/>
                </a:moveTo>
                <a:cubicBezTo>
                  <a:pt x="20523" y="13756"/>
                  <a:pt x="20505" y="13954"/>
                  <a:pt x="20464" y="14139"/>
                </a:cubicBezTo>
                <a:cubicBezTo>
                  <a:pt x="20456" y="14164"/>
                  <a:pt x="20447" y="14188"/>
                  <a:pt x="20439" y="14213"/>
                </a:cubicBezTo>
              </a:path>
              <a:path w="5855" h="3102">
                <a:moveTo>
                  <a:pt x="21059" y="13643"/>
                </a:moveTo>
                <a:cubicBezTo>
                  <a:pt x="20879" y="13643"/>
                  <a:pt x="20886" y="13628"/>
                  <a:pt x="20886" y="13816"/>
                </a:cubicBezTo>
                <a:cubicBezTo>
                  <a:pt x="20980" y="13809"/>
                  <a:pt x="21044" y="13802"/>
                  <a:pt x="21134" y="13816"/>
                </a:cubicBezTo>
                <a:cubicBezTo>
                  <a:pt x="21154" y="13944"/>
                  <a:pt x="21125" y="14039"/>
                  <a:pt x="20960" y="14039"/>
                </a:cubicBezTo>
                <a:cubicBezTo>
                  <a:pt x="20935" y="14031"/>
                  <a:pt x="20911" y="14023"/>
                  <a:pt x="20886" y="14015"/>
                </a:cubicBezTo>
              </a:path>
              <a:path w="5855" h="3102">
                <a:moveTo>
                  <a:pt x="21605" y="13370"/>
                </a:moveTo>
                <a:cubicBezTo>
                  <a:pt x="21547" y="13586"/>
                  <a:pt x="21520" y="13815"/>
                  <a:pt x="21506" y="14039"/>
                </a:cubicBezTo>
                <a:cubicBezTo>
                  <a:pt x="21506" y="14138"/>
                  <a:pt x="21506" y="14155"/>
                  <a:pt x="21506" y="14213"/>
                </a:cubicBezTo>
              </a:path>
              <a:path w="5855" h="3102">
                <a:moveTo>
                  <a:pt x="19695" y="13643"/>
                </a:moveTo>
                <a:lnTo>
                  <a:pt x="19695" y="13643"/>
                </a:lnTo>
              </a:path>
              <a:path w="5855" h="3102">
                <a:moveTo>
                  <a:pt x="19571" y="13643"/>
                </a:moveTo>
                <a:cubicBezTo>
                  <a:pt x="19682" y="13629"/>
                  <a:pt x="19789" y="13606"/>
                  <a:pt x="19893" y="13568"/>
                </a:cubicBezTo>
              </a:path>
              <a:path w="5855" h="3102">
                <a:moveTo>
                  <a:pt x="19621" y="14337"/>
                </a:moveTo>
                <a:cubicBezTo>
                  <a:pt x="19831" y="14284"/>
                  <a:pt x="20058" y="14255"/>
                  <a:pt x="20290" y="14238"/>
                </a:cubicBezTo>
                <a:cubicBezTo>
                  <a:pt x="20771" y="14203"/>
                  <a:pt x="21249" y="14134"/>
                  <a:pt x="21729" y="14114"/>
                </a:cubicBezTo>
                <a:cubicBezTo>
                  <a:pt x="21737" y="14114"/>
                  <a:pt x="21746" y="14114"/>
                  <a:pt x="21754" y="14114"/>
                </a:cubicBezTo>
              </a:path>
              <a:path w="5855" h="3102">
                <a:moveTo>
                  <a:pt x="20712" y="14610"/>
                </a:moveTo>
                <a:cubicBezTo>
                  <a:pt x="20744" y="14514"/>
                  <a:pt x="20769" y="14507"/>
                  <a:pt x="20861" y="14461"/>
                </a:cubicBezTo>
                <a:cubicBezTo>
                  <a:pt x="21006" y="14534"/>
                  <a:pt x="20956" y="14655"/>
                  <a:pt x="20861" y="14784"/>
                </a:cubicBezTo>
                <a:cubicBezTo>
                  <a:pt x="20836" y="14809"/>
                  <a:pt x="20811" y="14833"/>
                  <a:pt x="20786" y="14858"/>
                </a:cubicBezTo>
                <a:cubicBezTo>
                  <a:pt x="20678" y="14858"/>
                  <a:pt x="20888" y="14771"/>
                  <a:pt x="20960" y="14883"/>
                </a:cubicBezTo>
                <a:cubicBezTo>
                  <a:pt x="21069" y="15053"/>
                  <a:pt x="20789" y="15123"/>
                  <a:pt x="20687" y="15131"/>
                </a:cubicBezTo>
                <a:cubicBezTo>
                  <a:pt x="20654" y="15131"/>
                  <a:pt x="20621" y="15131"/>
                  <a:pt x="20588" y="15131"/>
                </a:cubicBezTo>
              </a:path>
              <a:path w="5855" h="3102">
                <a:moveTo>
                  <a:pt x="20389" y="12675"/>
                </a:moveTo>
                <a:cubicBezTo>
                  <a:pt x="20305" y="12710"/>
                  <a:pt x="20259" y="12753"/>
                  <a:pt x="20216" y="12898"/>
                </a:cubicBezTo>
                <a:cubicBezTo>
                  <a:pt x="20176" y="13033"/>
                  <a:pt x="20262" y="13112"/>
                  <a:pt x="20340" y="13221"/>
                </a:cubicBezTo>
                <a:cubicBezTo>
                  <a:pt x="20438" y="13358"/>
                  <a:pt x="20533" y="13427"/>
                  <a:pt x="20687" y="13494"/>
                </a:cubicBezTo>
                <a:cubicBezTo>
                  <a:pt x="20862" y="13570"/>
                  <a:pt x="20930" y="13556"/>
                  <a:pt x="21109" y="13519"/>
                </a:cubicBezTo>
                <a:cubicBezTo>
                  <a:pt x="21232" y="13493"/>
                  <a:pt x="21381" y="13452"/>
                  <a:pt x="21481" y="13370"/>
                </a:cubicBezTo>
                <a:cubicBezTo>
                  <a:pt x="21617" y="13259"/>
                  <a:pt x="21738" y="13150"/>
                  <a:pt x="21828" y="12998"/>
                </a:cubicBezTo>
                <a:cubicBezTo>
                  <a:pt x="21901" y="12873"/>
                  <a:pt x="21903" y="12766"/>
                  <a:pt x="21903" y="12626"/>
                </a:cubicBezTo>
                <a:cubicBezTo>
                  <a:pt x="21903" y="12498"/>
                  <a:pt x="21884" y="12357"/>
                  <a:pt x="21803" y="12254"/>
                </a:cubicBezTo>
                <a:cubicBezTo>
                  <a:pt x="21723" y="12152"/>
                  <a:pt x="21602" y="12108"/>
                  <a:pt x="21481" y="12080"/>
                </a:cubicBezTo>
                <a:cubicBezTo>
                  <a:pt x="21320" y="12043"/>
                  <a:pt x="21174" y="12030"/>
                  <a:pt x="21010" y="12030"/>
                </a:cubicBezTo>
                <a:cubicBezTo>
                  <a:pt x="20823" y="12030"/>
                  <a:pt x="20679" y="12073"/>
                  <a:pt x="20513" y="12154"/>
                </a:cubicBezTo>
                <a:cubicBezTo>
                  <a:pt x="20363" y="12227"/>
                  <a:pt x="20254" y="12316"/>
                  <a:pt x="20191" y="12477"/>
                </a:cubicBezTo>
                <a:cubicBezTo>
                  <a:pt x="20138" y="12611"/>
                  <a:pt x="20148" y="12690"/>
                  <a:pt x="20191" y="12824"/>
                </a:cubicBezTo>
                <a:cubicBezTo>
                  <a:pt x="20235" y="12959"/>
                  <a:pt x="20264" y="13021"/>
                  <a:pt x="20365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9040" y="4643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66" y="12898"/>
                </a:moveTo>
                <a:lnTo>
                  <a:pt x="1166" y="1289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74800" y="5018040"/>
            <a:ext cx="135000" cy="9720"/>
          </a:xfrm>
          <a:custGeom>
            <a:avLst/>
            <a:gdLst/>
            <a:ahLst/>
            <a:rect l="l" t="t" r="r" b="b"/>
            <a:pathLst>
              <a:path w="373" h="26">
                <a:moveTo>
                  <a:pt x="2431" y="13940"/>
                </a:moveTo>
                <a:cubicBezTo>
                  <a:pt x="2556" y="13948"/>
                  <a:pt x="2677" y="13965"/>
                  <a:pt x="2803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84840"/>
            <a:ext cx="438120" cy="223560"/>
          </a:xfrm>
          <a:custGeom>
            <a:avLst/>
            <a:gdLst/>
            <a:ahLst/>
            <a:rect l="l" t="t" r="r" b="b"/>
            <a:pathLst>
              <a:path w="1216" h="621">
                <a:moveTo>
                  <a:pt x="3249" y="13568"/>
                </a:moveTo>
                <a:cubicBezTo>
                  <a:pt x="3249" y="13704"/>
                  <a:pt x="3190" y="13827"/>
                  <a:pt x="3175" y="13965"/>
                </a:cubicBezTo>
                <a:cubicBezTo>
                  <a:pt x="3158" y="14123"/>
                  <a:pt x="3251" y="14203"/>
                  <a:pt x="3398" y="14163"/>
                </a:cubicBezTo>
                <a:cubicBezTo>
                  <a:pt x="3532" y="14126"/>
                  <a:pt x="3648" y="14081"/>
                  <a:pt x="3721" y="13965"/>
                </a:cubicBezTo>
                <a:cubicBezTo>
                  <a:pt x="3673" y="13892"/>
                  <a:pt x="3605" y="13864"/>
                  <a:pt x="3522" y="13940"/>
                </a:cubicBezTo>
                <a:cubicBezTo>
                  <a:pt x="3466" y="14025"/>
                  <a:pt x="3448" y="14062"/>
                  <a:pt x="3448" y="14139"/>
                </a:cubicBezTo>
              </a:path>
              <a:path w="1216" h="621">
                <a:moveTo>
                  <a:pt x="4167" y="13767"/>
                </a:moveTo>
                <a:cubicBezTo>
                  <a:pt x="4167" y="13725"/>
                  <a:pt x="4167" y="13717"/>
                  <a:pt x="4167" y="13692"/>
                </a:cubicBezTo>
                <a:cubicBezTo>
                  <a:pt x="4167" y="13830"/>
                  <a:pt x="4163" y="13956"/>
                  <a:pt x="4142" y="14089"/>
                </a:cubicBezTo>
                <a:cubicBezTo>
                  <a:pt x="4142" y="14097"/>
                  <a:pt x="4142" y="14106"/>
                  <a:pt x="4142" y="14114"/>
                </a:cubicBezTo>
              </a:path>
              <a:path w="1216" h="621">
                <a:moveTo>
                  <a:pt x="4068" y="13940"/>
                </a:moveTo>
                <a:cubicBezTo>
                  <a:pt x="4179" y="13903"/>
                  <a:pt x="4275" y="13879"/>
                  <a:pt x="4390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8960" y="4875120"/>
            <a:ext cx="214200" cy="189000"/>
          </a:xfrm>
          <a:custGeom>
            <a:avLst/>
            <a:gdLst/>
            <a:ahLst/>
            <a:rect l="l" t="t" r="r" b="b"/>
            <a:pathLst>
              <a:path w="596" h="522">
                <a:moveTo>
                  <a:pt x="4887" y="13543"/>
                </a:moveTo>
                <a:cubicBezTo>
                  <a:pt x="4906" y="13717"/>
                  <a:pt x="4921" y="13890"/>
                  <a:pt x="4936" y="14064"/>
                </a:cubicBezTo>
              </a:path>
              <a:path w="596" h="522">
                <a:moveTo>
                  <a:pt x="5085" y="13593"/>
                </a:moveTo>
                <a:cubicBezTo>
                  <a:pt x="5159" y="13537"/>
                  <a:pt x="5274" y="13500"/>
                  <a:pt x="5333" y="13618"/>
                </a:cubicBezTo>
                <a:cubicBezTo>
                  <a:pt x="5396" y="13743"/>
                  <a:pt x="5296" y="13760"/>
                  <a:pt x="5209" y="13816"/>
                </a:cubicBezTo>
                <a:cubicBezTo>
                  <a:pt x="5321" y="13769"/>
                  <a:pt x="5367" y="13775"/>
                  <a:pt x="5482" y="13841"/>
                </a:cubicBezTo>
                <a:cubicBezTo>
                  <a:pt x="5442" y="13989"/>
                  <a:pt x="5419" y="14086"/>
                  <a:pt x="5234" y="14064"/>
                </a:cubicBezTo>
                <a:cubicBezTo>
                  <a:pt x="5186" y="14040"/>
                  <a:pt x="5172" y="14032"/>
                  <a:pt x="5135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2000" y="5249880"/>
            <a:ext cx="189000" cy="206280"/>
          </a:xfrm>
          <a:custGeom>
            <a:avLst/>
            <a:gdLst/>
            <a:ahLst/>
            <a:rect l="l" t="t" r="r" b="b"/>
            <a:pathLst>
              <a:path w="522" h="572">
                <a:moveTo>
                  <a:pt x="3001" y="14610"/>
                </a:moveTo>
                <a:cubicBezTo>
                  <a:pt x="2972" y="14580"/>
                  <a:pt x="2955" y="14930"/>
                  <a:pt x="2952" y="14982"/>
                </a:cubicBezTo>
                <a:cubicBezTo>
                  <a:pt x="2952" y="15081"/>
                  <a:pt x="2952" y="15098"/>
                  <a:pt x="2952" y="15156"/>
                </a:cubicBezTo>
              </a:path>
              <a:path w="522" h="572">
                <a:moveTo>
                  <a:pt x="3349" y="14709"/>
                </a:moveTo>
                <a:cubicBezTo>
                  <a:pt x="3231" y="14779"/>
                  <a:pt x="3214" y="14862"/>
                  <a:pt x="3200" y="15007"/>
                </a:cubicBezTo>
                <a:cubicBezTo>
                  <a:pt x="3189" y="15124"/>
                  <a:pt x="3413" y="15022"/>
                  <a:pt x="3448" y="14982"/>
                </a:cubicBezTo>
                <a:cubicBezTo>
                  <a:pt x="3531" y="14887"/>
                  <a:pt x="3395" y="14947"/>
                  <a:pt x="3349" y="150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57200" y="5214960"/>
            <a:ext cx="9720" cy="233280"/>
          </a:xfrm>
          <a:custGeom>
            <a:avLst/>
            <a:gdLst/>
            <a:ahLst/>
            <a:rect l="l" t="t" r="r" b="b"/>
            <a:pathLst>
              <a:path w="26" h="646">
                <a:moveTo>
                  <a:pt x="3795" y="14486"/>
                </a:moveTo>
                <a:cubicBezTo>
                  <a:pt x="3795" y="14704"/>
                  <a:pt x="3781" y="14915"/>
                  <a:pt x="3770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51040" y="5224320"/>
            <a:ext cx="303120" cy="214560"/>
          </a:xfrm>
          <a:custGeom>
            <a:avLst/>
            <a:gdLst/>
            <a:ahLst/>
            <a:rect l="l" t="t" r="r" b="b"/>
            <a:pathLst>
              <a:path w="844" h="596">
                <a:moveTo>
                  <a:pt x="4936" y="14511"/>
                </a:moveTo>
                <a:cubicBezTo>
                  <a:pt x="4905" y="14708"/>
                  <a:pt x="4877" y="14907"/>
                  <a:pt x="4862" y="15106"/>
                </a:cubicBezTo>
              </a:path>
              <a:path w="844" h="596">
                <a:moveTo>
                  <a:pt x="5234" y="14684"/>
                </a:moveTo>
                <a:cubicBezTo>
                  <a:pt x="5234" y="14812"/>
                  <a:pt x="5222" y="14910"/>
                  <a:pt x="5184" y="15032"/>
                </a:cubicBezTo>
              </a:path>
              <a:path w="844" h="596">
                <a:moveTo>
                  <a:pt x="5432" y="14660"/>
                </a:moveTo>
                <a:cubicBezTo>
                  <a:pt x="5536" y="14625"/>
                  <a:pt x="5704" y="14605"/>
                  <a:pt x="5581" y="14759"/>
                </a:cubicBezTo>
                <a:cubicBezTo>
                  <a:pt x="5564" y="14775"/>
                  <a:pt x="5548" y="14792"/>
                  <a:pt x="5531" y="14808"/>
                </a:cubicBezTo>
                <a:cubicBezTo>
                  <a:pt x="5606" y="14784"/>
                  <a:pt x="5630" y="14776"/>
                  <a:pt x="5680" y="14808"/>
                </a:cubicBezTo>
                <a:cubicBezTo>
                  <a:pt x="5695" y="14945"/>
                  <a:pt x="5619" y="14990"/>
                  <a:pt x="5482" y="15007"/>
                </a:cubicBezTo>
                <a:cubicBezTo>
                  <a:pt x="5430" y="15007"/>
                  <a:pt x="5414" y="15005"/>
                  <a:pt x="5457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52800" y="5160960"/>
            <a:ext cx="9360" cy="287280"/>
          </a:xfrm>
          <a:custGeom>
            <a:avLst/>
            <a:gdLst/>
            <a:ahLst/>
            <a:rect l="l" t="t" r="r" b="b"/>
            <a:pathLst>
              <a:path w="26" h="795">
                <a:moveTo>
                  <a:pt x="5978" y="14337"/>
                </a:moveTo>
                <a:cubicBezTo>
                  <a:pt x="5978" y="14504"/>
                  <a:pt x="6013" y="14665"/>
                  <a:pt x="6003" y="14833"/>
                </a:cubicBezTo>
                <a:cubicBezTo>
                  <a:pt x="5980" y="14990"/>
                  <a:pt x="5972" y="15031"/>
                  <a:pt x="5978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70120" y="4714920"/>
            <a:ext cx="830160" cy="839880"/>
          </a:xfrm>
          <a:custGeom>
            <a:avLst/>
            <a:gdLst/>
            <a:ahLst/>
            <a:rect l="l" t="t" r="r" b="b"/>
            <a:pathLst>
              <a:path w="2307" h="2333">
                <a:moveTo>
                  <a:pt x="7441" y="14188"/>
                </a:moveTo>
                <a:cubicBezTo>
                  <a:pt x="7565" y="14188"/>
                  <a:pt x="7640" y="14188"/>
                  <a:pt x="7764" y="14188"/>
                </a:cubicBezTo>
                <a:cubicBezTo>
                  <a:pt x="7780" y="14188"/>
                  <a:pt x="7797" y="14188"/>
                  <a:pt x="7813" y="14188"/>
                </a:cubicBezTo>
              </a:path>
              <a:path w="2307" h="2333">
                <a:moveTo>
                  <a:pt x="8806" y="13419"/>
                </a:moveTo>
                <a:cubicBezTo>
                  <a:pt x="8775" y="13329"/>
                  <a:pt x="8723" y="13710"/>
                  <a:pt x="8706" y="13791"/>
                </a:cubicBezTo>
                <a:cubicBezTo>
                  <a:pt x="8706" y="13799"/>
                  <a:pt x="8706" y="13808"/>
                  <a:pt x="8706" y="13816"/>
                </a:cubicBezTo>
              </a:path>
              <a:path w="2307" h="2333">
                <a:moveTo>
                  <a:pt x="9004" y="13395"/>
                </a:moveTo>
                <a:cubicBezTo>
                  <a:pt x="9090" y="13368"/>
                  <a:pt x="9259" y="13279"/>
                  <a:pt x="9277" y="13395"/>
                </a:cubicBezTo>
                <a:cubicBezTo>
                  <a:pt x="9299" y="13540"/>
                  <a:pt x="9207" y="13555"/>
                  <a:pt x="9103" y="13618"/>
                </a:cubicBezTo>
                <a:cubicBezTo>
                  <a:pt x="9087" y="13618"/>
                  <a:pt x="9070" y="13618"/>
                  <a:pt x="9054" y="13618"/>
                </a:cubicBezTo>
                <a:cubicBezTo>
                  <a:pt x="9179" y="13576"/>
                  <a:pt x="9374" y="13575"/>
                  <a:pt x="9277" y="13791"/>
                </a:cubicBezTo>
                <a:cubicBezTo>
                  <a:pt x="9219" y="13919"/>
                  <a:pt x="9102" y="13859"/>
                  <a:pt x="9004" y="13841"/>
                </a:cubicBezTo>
              </a:path>
              <a:path w="2307" h="2333">
                <a:moveTo>
                  <a:pt x="9054" y="14089"/>
                </a:moveTo>
                <a:cubicBezTo>
                  <a:pt x="8991" y="14215"/>
                  <a:pt x="8931" y="14333"/>
                  <a:pt x="8880" y="14461"/>
                </a:cubicBezTo>
                <a:cubicBezTo>
                  <a:pt x="8824" y="14601"/>
                  <a:pt x="9034" y="14599"/>
                  <a:pt x="9128" y="14585"/>
                </a:cubicBezTo>
                <a:cubicBezTo>
                  <a:pt x="9241" y="14569"/>
                  <a:pt x="9320" y="14487"/>
                  <a:pt x="9227" y="14387"/>
                </a:cubicBezTo>
                <a:cubicBezTo>
                  <a:pt x="9147" y="14301"/>
                  <a:pt x="9060" y="14444"/>
                  <a:pt x="9029" y="14486"/>
                </a:cubicBezTo>
                <a:cubicBezTo>
                  <a:pt x="8999" y="14516"/>
                  <a:pt x="8988" y="14530"/>
                  <a:pt x="8979" y="14560"/>
                </a:cubicBezTo>
              </a:path>
              <a:path w="2307" h="2333">
                <a:moveTo>
                  <a:pt x="7913" y="14635"/>
                </a:moveTo>
                <a:cubicBezTo>
                  <a:pt x="8026" y="14606"/>
                  <a:pt x="8158" y="14653"/>
                  <a:pt x="8285" y="14660"/>
                </a:cubicBezTo>
                <a:cubicBezTo>
                  <a:pt x="8507" y="14672"/>
                  <a:pt x="8732" y="14674"/>
                  <a:pt x="8954" y="14684"/>
                </a:cubicBezTo>
                <a:cubicBezTo>
                  <a:pt x="9147" y="14693"/>
                  <a:pt x="9335" y="14692"/>
                  <a:pt x="9525" y="14709"/>
                </a:cubicBezTo>
                <a:cubicBezTo>
                  <a:pt x="9583" y="14709"/>
                  <a:pt x="9591" y="14709"/>
                  <a:pt x="9624" y="14709"/>
                </a:cubicBezTo>
              </a:path>
              <a:path w="2307" h="2333">
                <a:moveTo>
                  <a:pt x="9128" y="14883"/>
                </a:moveTo>
                <a:cubicBezTo>
                  <a:pt x="9153" y="14932"/>
                  <a:pt x="9161" y="14949"/>
                  <a:pt x="9128" y="14982"/>
                </a:cubicBezTo>
                <a:cubicBezTo>
                  <a:pt x="9209" y="14872"/>
                  <a:pt x="9237" y="14841"/>
                  <a:pt x="9376" y="14833"/>
                </a:cubicBezTo>
                <a:cubicBezTo>
                  <a:pt x="9411" y="14833"/>
                  <a:pt x="9429" y="14838"/>
                  <a:pt x="9451" y="14858"/>
                </a:cubicBezTo>
                <a:cubicBezTo>
                  <a:pt x="9388" y="15056"/>
                  <a:pt x="9293" y="15238"/>
                  <a:pt x="9203" y="15429"/>
                </a:cubicBezTo>
              </a:path>
              <a:path w="2307" h="2333">
                <a:moveTo>
                  <a:pt x="8533" y="13965"/>
                </a:moveTo>
                <a:cubicBezTo>
                  <a:pt x="8606" y="14080"/>
                  <a:pt x="8635" y="14119"/>
                  <a:pt x="8781" y="14139"/>
                </a:cubicBezTo>
                <a:cubicBezTo>
                  <a:pt x="8870" y="14151"/>
                  <a:pt x="8965" y="14146"/>
                  <a:pt x="9054" y="14163"/>
                </a:cubicBezTo>
                <a:cubicBezTo>
                  <a:pt x="9160" y="14183"/>
                  <a:pt x="9265" y="14159"/>
                  <a:pt x="9376" y="14139"/>
                </a:cubicBezTo>
                <a:cubicBezTo>
                  <a:pt x="9533" y="14110"/>
                  <a:pt x="9571" y="14038"/>
                  <a:pt x="9649" y="13915"/>
                </a:cubicBezTo>
                <a:cubicBezTo>
                  <a:pt x="9717" y="13807"/>
                  <a:pt x="9723" y="13744"/>
                  <a:pt x="9723" y="13618"/>
                </a:cubicBezTo>
                <a:cubicBezTo>
                  <a:pt x="9723" y="13527"/>
                  <a:pt x="9682" y="13370"/>
                  <a:pt x="9624" y="13295"/>
                </a:cubicBezTo>
                <a:cubicBezTo>
                  <a:pt x="9560" y="13212"/>
                  <a:pt x="9495" y="13168"/>
                  <a:pt x="9401" y="13146"/>
                </a:cubicBezTo>
                <a:cubicBezTo>
                  <a:pt x="9242" y="13109"/>
                  <a:pt x="9140" y="13117"/>
                  <a:pt x="8979" y="13122"/>
                </a:cubicBezTo>
                <a:cubicBezTo>
                  <a:pt x="8871" y="13125"/>
                  <a:pt x="8761" y="13123"/>
                  <a:pt x="8657" y="13146"/>
                </a:cubicBezTo>
                <a:cubicBezTo>
                  <a:pt x="8556" y="13168"/>
                  <a:pt x="8453" y="13227"/>
                  <a:pt x="8359" y="13271"/>
                </a:cubicBezTo>
                <a:cubicBezTo>
                  <a:pt x="8260" y="13318"/>
                  <a:pt x="8222" y="13395"/>
                  <a:pt x="8186" y="13494"/>
                </a:cubicBezTo>
                <a:cubicBezTo>
                  <a:pt x="8145" y="13606"/>
                  <a:pt x="8128" y="13659"/>
                  <a:pt x="8136" y="13767"/>
                </a:cubicBezTo>
                <a:cubicBezTo>
                  <a:pt x="8140" y="13822"/>
                  <a:pt x="8182" y="13950"/>
                  <a:pt x="8235" y="13990"/>
                </a:cubicBezTo>
                <a:cubicBezTo>
                  <a:pt x="8314" y="14049"/>
                  <a:pt x="8419" y="14070"/>
                  <a:pt x="8508" y="14089"/>
                </a:cubicBezTo>
                <a:cubicBezTo>
                  <a:pt x="8516" y="14089"/>
                  <a:pt x="8525" y="14089"/>
                  <a:pt x="8533" y="14089"/>
                </a:cubicBezTo>
              </a:path>
              <a:path w="2307" h="2333">
                <a:moveTo>
                  <a:pt x="8607" y="14908"/>
                </a:moveTo>
                <a:cubicBezTo>
                  <a:pt x="8607" y="15017"/>
                  <a:pt x="8612" y="15044"/>
                  <a:pt x="8582" y="15106"/>
                </a:cubicBezTo>
              </a:path>
              <a:path w="2307" h="2333">
                <a:moveTo>
                  <a:pt x="8508" y="15007"/>
                </a:moveTo>
                <a:cubicBezTo>
                  <a:pt x="8579" y="14991"/>
                  <a:pt x="8597" y="14982"/>
                  <a:pt x="8657" y="149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10040" y="5106960"/>
            <a:ext cx="830160" cy="260280"/>
          </a:xfrm>
          <a:custGeom>
            <a:avLst/>
            <a:gdLst/>
            <a:ahLst/>
            <a:rect l="l" t="t" r="r" b="b"/>
            <a:pathLst>
              <a:path w="2308" h="721">
                <a:moveTo>
                  <a:pt x="11237" y="14312"/>
                </a:moveTo>
                <a:cubicBezTo>
                  <a:pt x="11218" y="14486"/>
                  <a:pt x="11164" y="14660"/>
                  <a:pt x="11137" y="14833"/>
                </a:cubicBezTo>
                <a:cubicBezTo>
                  <a:pt x="11137" y="14895"/>
                  <a:pt x="11128" y="14929"/>
                  <a:pt x="11162" y="14883"/>
                </a:cubicBezTo>
              </a:path>
              <a:path w="2308" h="721">
                <a:moveTo>
                  <a:pt x="11683" y="14610"/>
                </a:moveTo>
                <a:cubicBezTo>
                  <a:pt x="11701" y="14544"/>
                  <a:pt x="11739" y="14419"/>
                  <a:pt x="11633" y="14387"/>
                </a:cubicBezTo>
                <a:cubicBezTo>
                  <a:pt x="11478" y="14340"/>
                  <a:pt x="11468" y="14549"/>
                  <a:pt x="11485" y="14635"/>
                </a:cubicBezTo>
                <a:cubicBezTo>
                  <a:pt x="11560" y="14597"/>
                  <a:pt x="11691" y="14435"/>
                  <a:pt x="11683" y="14511"/>
                </a:cubicBezTo>
                <a:cubicBezTo>
                  <a:pt x="11660" y="14626"/>
                  <a:pt x="11651" y="14658"/>
                  <a:pt x="11658" y="14734"/>
                </a:cubicBezTo>
              </a:path>
              <a:path w="2308" h="721">
                <a:moveTo>
                  <a:pt x="11931" y="14213"/>
                </a:moveTo>
                <a:cubicBezTo>
                  <a:pt x="11906" y="14389"/>
                  <a:pt x="11873" y="14561"/>
                  <a:pt x="11832" y="14734"/>
                </a:cubicBezTo>
                <a:cubicBezTo>
                  <a:pt x="11824" y="14767"/>
                  <a:pt x="11815" y="14800"/>
                  <a:pt x="11807" y="14833"/>
                </a:cubicBezTo>
              </a:path>
              <a:path w="2308" h="721">
                <a:moveTo>
                  <a:pt x="12427" y="14461"/>
                </a:moveTo>
                <a:cubicBezTo>
                  <a:pt x="12396" y="14545"/>
                  <a:pt x="12384" y="14619"/>
                  <a:pt x="12378" y="14709"/>
                </a:cubicBezTo>
              </a:path>
              <a:path w="2308" h="721">
                <a:moveTo>
                  <a:pt x="12278" y="14610"/>
                </a:moveTo>
                <a:cubicBezTo>
                  <a:pt x="12361" y="14610"/>
                  <a:pt x="12443" y="14610"/>
                  <a:pt x="12526" y="14610"/>
                </a:cubicBezTo>
              </a:path>
              <a:path w="2308" h="721">
                <a:moveTo>
                  <a:pt x="12874" y="14213"/>
                </a:moveTo>
                <a:cubicBezTo>
                  <a:pt x="12844" y="14387"/>
                  <a:pt x="12796" y="14559"/>
                  <a:pt x="12774" y="14734"/>
                </a:cubicBezTo>
              </a:path>
              <a:path w="2308" h="721">
                <a:moveTo>
                  <a:pt x="13022" y="14362"/>
                </a:moveTo>
                <a:cubicBezTo>
                  <a:pt x="13017" y="14482"/>
                  <a:pt x="13005" y="14591"/>
                  <a:pt x="12998" y="14709"/>
                </a:cubicBezTo>
                <a:cubicBezTo>
                  <a:pt x="13123" y="14734"/>
                  <a:pt x="13174" y="14695"/>
                  <a:pt x="13271" y="14610"/>
                </a:cubicBezTo>
                <a:cubicBezTo>
                  <a:pt x="13228" y="14567"/>
                  <a:pt x="13176" y="14520"/>
                  <a:pt x="13122" y="14585"/>
                </a:cubicBezTo>
                <a:cubicBezTo>
                  <a:pt x="13098" y="14633"/>
                  <a:pt x="13090" y="14647"/>
                  <a:pt x="13097" y="14684"/>
                </a:cubicBezTo>
              </a:path>
              <a:path w="2308" h="721">
                <a:moveTo>
                  <a:pt x="13444" y="14188"/>
                </a:moveTo>
                <a:cubicBezTo>
                  <a:pt x="13427" y="14340"/>
                  <a:pt x="13385" y="14486"/>
                  <a:pt x="13345" y="14635"/>
                </a:cubicBezTo>
                <a:cubicBezTo>
                  <a:pt x="13337" y="14668"/>
                  <a:pt x="13328" y="14701"/>
                  <a:pt x="13320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43200" y="3143160"/>
            <a:ext cx="1590840" cy="2598840"/>
          </a:xfrm>
          <a:custGeom>
            <a:avLst/>
            <a:gdLst/>
            <a:ahLst/>
            <a:rect l="l" t="t" r="r" b="b"/>
            <a:pathLst>
              <a:path w="4417" h="7219">
                <a:moveTo>
                  <a:pt x="10988" y="13667"/>
                </a:moveTo>
                <a:cubicBezTo>
                  <a:pt x="11075" y="13646"/>
                  <a:pt x="11205" y="13667"/>
                  <a:pt x="11311" y="13667"/>
                </a:cubicBezTo>
              </a:path>
              <a:path w="4417" h="7219">
                <a:moveTo>
                  <a:pt x="11757" y="13593"/>
                </a:moveTo>
                <a:cubicBezTo>
                  <a:pt x="11786" y="13525"/>
                  <a:pt x="11786" y="13434"/>
                  <a:pt x="11733" y="13370"/>
                </a:cubicBezTo>
                <a:cubicBezTo>
                  <a:pt x="11716" y="13362"/>
                  <a:pt x="11700" y="13353"/>
                  <a:pt x="11683" y="13345"/>
                </a:cubicBezTo>
                <a:cubicBezTo>
                  <a:pt x="11553" y="13388"/>
                  <a:pt x="11530" y="13459"/>
                  <a:pt x="11509" y="13593"/>
                </a:cubicBezTo>
                <a:cubicBezTo>
                  <a:pt x="11658" y="13623"/>
                  <a:pt x="11694" y="13563"/>
                  <a:pt x="11782" y="13444"/>
                </a:cubicBezTo>
                <a:cubicBezTo>
                  <a:pt x="11767" y="13535"/>
                  <a:pt x="11689" y="13787"/>
                  <a:pt x="11757" y="13866"/>
                </a:cubicBezTo>
                <a:cubicBezTo>
                  <a:pt x="11765" y="13858"/>
                  <a:pt x="11774" y="13849"/>
                  <a:pt x="11782" y="13841"/>
                </a:cubicBezTo>
              </a:path>
              <a:path w="4417" h="7219">
                <a:moveTo>
                  <a:pt x="12204" y="13593"/>
                </a:moveTo>
                <a:cubicBezTo>
                  <a:pt x="12204" y="13669"/>
                  <a:pt x="12193" y="13693"/>
                  <a:pt x="12179" y="13767"/>
                </a:cubicBezTo>
              </a:path>
              <a:path w="4417" h="7219">
                <a:moveTo>
                  <a:pt x="12129" y="13667"/>
                </a:moveTo>
                <a:cubicBezTo>
                  <a:pt x="12205" y="13667"/>
                  <a:pt x="12231" y="13667"/>
                  <a:pt x="12278" y="13643"/>
                </a:cubicBezTo>
              </a:path>
              <a:path w="4417" h="7219">
                <a:moveTo>
                  <a:pt x="12725" y="13593"/>
                </a:moveTo>
                <a:cubicBezTo>
                  <a:pt x="12799" y="13593"/>
                  <a:pt x="12874" y="13593"/>
                  <a:pt x="12948" y="13593"/>
                </a:cubicBezTo>
              </a:path>
              <a:path w="4417" h="7219">
                <a:moveTo>
                  <a:pt x="13196" y="13419"/>
                </a:moveTo>
                <a:cubicBezTo>
                  <a:pt x="13187" y="13504"/>
                  <a:pt x="13159" y="13586"/>
                  <a:pt x="13146" y="13667"/>
                </a:cubicBezTo>
                <a:cubicBezTo>
                  <a:pt x="13128" y="13783"/>
                  <a:pt x="13191" y="13792"/>
                  <a:pt x="13295" y="13816"/>
                </a:cubicBezTo>
                <a:cubicBezTo>
                  <a:pt x="13347" y="13828"/>
                  <a:pt x="13412" y="13812"/>
                  <a:pt x="13444" y="13767"/>
                </a:cubicBezTo>
                <a:cubicBezTo>
                  <a:pt x="13464" y="13726"/>
                  <a:pt x="13473" y="13720"/>
                  <a:pt x="13469" y="13692"/>
                </a:cubicBezTo>
                <a:cubicBezTo>
                  <a:pt x="13404" y="13664"/>
                  <a:pt x="13347" y="13652"/>
                  <a:pt x="13320" y="13742"/>
                </a:cubicBezTo>
                <a:cubicBezTo>
                  <a:pt x="13320" y="13758"/>
                  <a:pt x="13320" y="13775"/>
                  <a:pt x="13320" y="13791"/>
                </a:cubicBezTo>
              </a:path>
              <a:path w="4417" h="7219">
                <a:moveTo>
                  <a:pt x="12105" y="15131"/>
                </a:moveTo>
                <a:cubicBezTo>
                  <a:pt x="12097" y="15131"/>
                  <a:pt x="12088" y="15131"/>
                  <a:pt x="12080" y="15131"/>
                </a:cubicBezTo>
              </a:path>
              <a:path w="4417" h="7219">
                <a:moveTo>
                  <a:pt x="12030" y="15230"/>
                </a:moveTo>
                <a:cubicBezTo>
                  <a:pt x="12058" y="15175"/>
                  <a:pt x="12066" y="15152"/>
                  <a:pt x="12055" y="15106"/>
                </a:cubicBezTo>
                <a:cubicBezTo>
                  <a:pt x="12055" y="15004"/>
                  <a:pt x="12036" y="15257"/>
                  <a:pt x="12005" y="15354"/>
                </a:cubicBezTo>
                <a:cubicBezTo>
                  <a:pt x="11968" y="15448"/>
                  <a:pt x="11975" y="15466"/>
                  <a:pt x="11931" y="15503"/>
                </a:cubicBezTo>
              </a:path>
              <a:path w="4417" h="7219">
                <a:moveTo>
                  <a:pt x="12700" y="15056"/>
                </a:moveTo>
                <a:cubicBezTo>
                  <a:pt x="12564" y="15056"/>
                  <a:pt x="12481" y="15012"/>
                  <a:pt x="12427" y="15156"/>
                </a:cubicBezTo>
                <a:cubicBezTo>
                  <a:pt x="12419" y="15189"/>
                  <a:pt x="12410" y="15222"/>
                  <a:pt x="12402" y="15255"/>
                </a:cubicBezTo>
                <a:cubicBezTo>
                  <a:pt x="12474" y="15284"/>
                  <a:pt x="12578" y="15232"/>
                  <a:pt x="12675" y="15280"/>
                </a:cubicBezTo>
                <a:cubicBezTo>
                  <a:pt x="12872" y="15377"/>
                  <a:pt x="12615" y="15514"/>
                  <a:pt x="12526" y="15528"/>
                </a:cubicBezTo>
                <a:cubicBezTo>
                  <a:pt x="12442" y="15528"/>
                  <a:pt x="12422" y="15535"/>
                  <a:pt x="12378" y="15503"/>
                </a:cubicBezTo>
              </a:path>
              <a:path w="4417" h="7219">
                <a:moveTo>
                  <a:pt x="11584" y="15205"/>
                </a:moveTo>
                <a:cubicBezTo>
                  <a:pt x="11650" y="15180"/>
                  <a:pt x="11650" y="15170"/>
                  <a:pt x="11708" y="15205"/>
                </a:cubicBezTo>
              </a:path>
              <a:path w="4417" h="7219">
                <a:moveTo>
                  <a:pt x="14461" y="13519"/>
                </a:moveTo>
                <a:cubicBezTo>
                  <a:pt x="14400" y="13464"/>
                  <a:pt x="14351" y="13401"/>
                  <a:pt x="14288" y="13345"/>
                </a:cubicBezTo>
                <a:cubicBezTo>
                  <a:pt x="14177" y="13247"/>
                  <a:pt x="14070" y="13168"/>
                  <a:pt x="13940" y="13097"/>
                </a:cubicBezTo>
                <a:cubicBezTo>
                  <a:pt x="13797" y="13019"/>
                  <a:pt x="13671" y="13009"/>
                  <a:pt x="13519" y="12973"/>
                </a:cubicBezTo>
                <a:cubicBezTo>
                  <a:pt x="13281" y="12917"/>
                  <a:pt x="13044" y="12863"/>
                  <a:pt x="12799" y="12849"/>
                </a:cubicBezTo>
                <a:cubicBezTo>
                  <a:pt x="12525" y="12834"/>
                  <a:pt x="12228" y="12806"/>
                  <a:pt x="11956" y="12849"/>
                </a:cubicBezTo>
                <a:cubicBezTo>
                  <a:pt x="11743" y="12883"/>
                  <a:pt x="11539" y="12950"/>
                  <a:pt x="11336" y="13022"/>
                </a:cubicBezTo>
                <a:cubicBezTo>
                  <a:pt x="11158" y="13085"/>
                  <a:pt x="11007" y="13088"/>
                  <a:pt x="10864" y="13221"/>
                </a:cubicBezTo>
                <a:cubicBezTo>
                  <a:pt x="10743" y="13333"/>
                  <a:pt x="10608" y="13482"/>
                  <a:pt x="10517" y="13618"/>
                </a:cubicBezTo>
                <a:cubicBezTo>
                  <a:pt x="10419" y="13765"/>
                  <a:pt x="10302" y="13932"/>
                  <a:pt x="10220" y="14089"/>
                </a:cubicBezTo>
                <a:cubicBezTo>
                  <a:pt x="10136" y="14248"/>
                  <a:pt x="10123" y="14435"/>
                  <a:pt x="10120" y="14610"/>
                </a:cubicBezTo>
                <a:cubicBezTo>
                  <a:pt x="10116" y="14839"/>
                  <a:pt x="10141" y="15096"/>
                  <a:pt x="10244" y="15304"/>
                </a:cubicBezTo>
                <a:cubicBezTo>
                  <a:pt x="10351" y="15521"/>
                  <a:pt x="10549" y="15662"/>
                  <a:pt x="10765" y="15751"/>
                </a:cubicBezTo>
                <a:cubicBezTo>
                  <a:pt x="10985" y="15842"/>
                  <a:pt x="11193" y="15934"/>
                  <a:pt x="11435" y="15949"/>
                </a:cubicBezTo>
                <a:cubicBezTo>
                  <a:pt x="11743" y="15968"/>
                  <a:pt x="12077" y="15970"/>
                  <a:pt x="12378" y="15900"/>
                </a:cubicBezTo>
                <a:cubicBezTo>
                  <a:pt x="12729" y="15818"/>
                  <a:pt x="13053" y="15698"/>
                  <a:pt x="13370" y="15528"/>
                </a:cubicBezTo>
                <a:cubicBezTo>
                  <a:pt x="13737" y="15331"/>
                  <a:pt x="14096" y="15028"/>
                  <a:pt x="14337" y="14684"/>
                </a:cubicBezTo>
                <a:cubicBezTo>
                  <a:pt x="14464" y="14502"/>
                  <a:pt x="14518" y="14283"/>
                  <a:pt x="14536" y="14064"/>
                </a:cubicBezTo>
                <a:cubicBezTo>
                  <a:pt x="14552" y="13864"/>
                  <a:pt x="14476" y="13686"/>
                  <a:pt x="14337" y="13543"/>
                </a:cubicBezTo>
                <a:cubicBezTo>
                  <a:pt x="14258" y="13464"/>
                  <a:pt x="14228" y="13436"/>
                  <a:pt x="14163" y="13395"/>
                </a:cubicBezTo>
              </a:path>
              <a:path w="4417" h="7219">
                <a:moveTo>
                  <a:pt x="13717" y="13072"/>
                </a:moveTo>
                <a:cubicBezTo>
                  <a:pt x="13671" y="12997"/>
                  <a:pt x="13641" y="12895"/>
                  <a:pt x="13593" y="12824"/>
                </a:cubicBezTo>
                <a:cubicBezTo>
                  <a:pt x="13502" y="12689"/>
                  <a:pt x="13312" y="12568"/>
                  <a:pt x="13196" y="12452"/>
                </a:cubicBezTo>
                <a:cubicBezTo>
                  <a:pt x="12982" y="12238"/>
                  <a:pt x="12741" y="12076"/>
                  <a:pt x="12626" y="11782"/>
                </a:cubicBezTo>
                <a:cubicBezTo>
                  <a:pt x="12510" y="11485"/>
                  <a:pt x="12508" y="11049"/>
                  <a:pt x="12576" y="10740"/>
                </a:cubicBezTo>
                <a:cubicBezTo>
                  <a:pt x="12635" y="10475"/>
                  <a:pt x="12761" y="10224"/>
                  <a:pt x="12849" y="9971"/>
                </a:cubicBezTo>
                <a:cubicBezTo>
                  <a:pt x="12914" y="9786"/>
                  <a:pt x="12919" y="9659"/>
                  <a:pt x="12898" y="9475"/>
                </a:cubicBezTo>
                <a:cubicBezTo>
                  <a:pt x="12884" y="9352"/>
                  <a:pt x="12889" y="9226"/>
                  <a:pt x="12874" y="9103"/>
                </a:cubicBezTo>
                <a:cubicBezTo>
                  <a:pt x="12867" y="9047"/>
                  <a:pt x="12874" y="8781"/>
                  <a:pt x="12799" y="8806"/>
                </a:cubicBezTo>
                <a:cubicBezTo>
                  <a:pt x="12696" y="8840"/>
                  <a:pt x="12640" y="8950"/>
                  <a:pt x="12576" y="9029"/>
                </a:cubicBezTo>
                <a:cubicBezTo>
                  <a:pt x="12551" y="9046"/>
                  <a:pt x="12527" y="9062"/>
                  <a:pt x="12502" y="9079"/>
                </a:cubicBezTo>
                <a:cubicBezTo>
                  <a:pt x="12591" y="8962"/>
                  <a:pt x="12660" y="8861"/>
                  <a:pt x="12725" y="8731"/>
                </a:cubicBezTo>
                <a:cubicBezTo>
                  <a:pt x="12842" y="8804"/>
                  <a:pt x="12980" y="8871"/>
                  <a:pt x="13097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94000" y="5973840"/>
            <a:ext cx="561960" cy="330120"/>
          </a:xfrm>
          <a:custGeom>
            <a:avLst/>
            <a:gdLst/>
            <a:ahLst/>
            <a:rect l="l" t="t" r="r" b="b"/>
            <a:pathLst>
              <a:path w="1563" h="919">
                <a:moveTo>
                  <a:pt x="8136" y="16594"/>
                </a:moveTo>
                <a:lnTo>
                  <a:pt x="8136" y="16594"/>
                </a:lnTo>
              </a:path>
              <a:path w="1563" h="919">
                <a:moveTo>
                  <a:pt x="6648" y="17239"/>
                </a:moveTo>
                <a:cubicBezTo>
                  <a:pt x="6787" y="17210"/>
                  <a:pt x="6928" y="17183"/>
                  <a:pt x="7069" y="17165"/>
                </a:cubicBezTo>
              </a:path>
              <a:path w="1563" h="919">
                <a:moveTo>
                  <a:pt x="7516" y="16743"/>
                </a:moveTo>
                <a:cubicBezTo>
                  <a:pt x="7489" y="16983"/>
                  <a:pt x="7471" y="17248"/>
                  <a:pt x="7516" y="17487"/>
                </a:cubicBezTo>
                <a:cubicBezTo>
                  <a:pt x="7524" y="17495"/>
                  <a:pt x="7533" y="17504"/>
                  <a:pt x="7541" y="17512"/>
                </a:cubicBezTo>
              </a:path>
              <a:path w="1563" h="919">
                <a:moveTo>
                  <a:pt x="7739" y="16793"/>
                </a:moveTo>
                <a:cubicBezTo>
                  <a:pt x="7869" y="16757"/>
                  <a:pt x="7977" y="16787"/>
                  <a:pt x="8111" y="16793"/>
                </a:cubicBezTo>
                <a:cubicBezTo>
                  <a:pt x="8245" y="16799"/>
                  <a:pt x="8218" y="16917"/>
                  <a:pt x="8210" y="17041"/>
                </a:cubicBezTo>
                <a:cubicBezTo>
                  <a:pt x="8202" y="17167"/>
                  <a:pt x="8172" y="17289"/>
                  <a:pt x="8161" y="174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87800" y="6054840"/>
            <a:ext cx="196920" cy="196560"/>
          </a:xfrm>
          <a:custGeom>
            <a:avLst/>
            <a:gdLst/>
            <a:ahLst/>
            <a:rect l="l" t="t" r="r" b="b"/>
            <a:pathLst>
              <a:path w="547" h="546">
                <a:moveTo>
                  <a:pt x="9054" y="16867"/>
                </a:moveTo>
                <a:cubicBezTo>
                  <a:pt x="9175" y="16820"/>
                  <a:pt x="9150" y="17124"/>
                  <a:pt x="9153" y="17264"/>
                </a:cubicBezTo>
                <a:cubicBezTo>
                  <a:pt x="9153" y="17297"/>
                  <a:pt x="9153" y="17330"/>
                  <a:pt x="9153" y="17363"/>
                </a:cubicBezTo>
              </a:path>
              <a:path w="547" h="546">
                <a:moveTo>
                  <a:pt x="8855" y="17066"/>
                </a:moveTo>
                <a:cubicBezTo>
                  <a:pt x="9041" y="17060"/>
                  <a:pt x="9217" y="17037"/>
                  <a:pt x="9401" y="170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16200" y="6000840"/>
            <a:ext cx="322560" cy="233280"/>
          </a:xfrm>
          <a:custGeom>
            <a:avLst/>
            <a:gdLst/>
            <a:ahLst/>
            <a:rect l="l" t="t" r="r" b="b"/>
            <a:pathLst>
              <a:path w="894" h="646">
                <a:moveTo>
                  <a:pt x="10046" y="16669"/>
                </a:moveTo>
                <a:cubicBezTo>
                  <a:pt x="10098" y="16875"/>
                  <a:pt x="10133" y="17080"/>
                  <a:pt x="10170" y="17289"/>
                </a:cubicBezTo>
              </a:path>
              <a:path w="894" h="646">
                <a:moveTo>
                  <a:pt x="10418" y="16718"/>
                </a:moveTo>
                <a:cubicBezTo>
                  <a:pt x="10560" y="16706"/>
                  <a:pt x="10676" y="16685"/>
                  <a:pt x="10815" y="16694"/>
                </a:cubicBezTo>
                <a:cubicBezTo>
                  <a:pt x="10873" y="16694"/>
                  <a:pt x="10881" y="16694"/>
                  <a:pt x="10914" y="16694"/>
                </a:cubicBezTo>
                <a:cubicBezTo>
                  <a:pt x="10967" y="16833"/>
                  <a:pt x="10920" y="17013"/>
                  <a:pt x="10889" y="17165"/>
                </a:cubicBezTo>
                <a:cubicBezTo>
                  <a:pt x="10863" y="17294"/>
                  <a:pt x="10907" y="17302"/>
                  <a:pt x="10815" y="173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4200" y="6402240"/>
            <a:ext cx="71640" cy="258840"/>
          </a:xfrm>
          <a:custGeom>
            <a:avLst/>
            <a:gdLst/>
            <a:ahLst/>
            <a:rect l="l" t="t" r="r" b="b"/>
            <a:pathLst>
              <a:path w="200" h="720">
                <a:moveTo>
                  <a:pt x="7119" y="17909"/>
                </a:moveTo>
                <a:cubicBezTo>
                  <a:pt x="7111" y="17884"/>
                  <a:pt x="7102" y="17860"/>
                  <a:pt x="7094" y="17835"/>
                </a:cubicBezTo>
                <a:cubicBezTo>
                  <a:pt x="7211" y="17884"/>
                  <a:pt x="7265" y="18224"/>
                  <a:pt x="7293" y="18455"/>
                </a:cubicBezTo>
                <a:cubicBezTo>
                  <a:pt x="7293" y="18471"/>
                  <a:pt x="7293" y="18488"/>
                  <a:pt x="7293" y="185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13040" y="6323040"/>
            <a:ext cx="1241280" cy="312840"/>
          </a:xfrm>
          <a:custGeom>
            <a:avLst/>
            <a:gdLst/>
            <a:ahLst/>
            <a:rect l="l" t="t" r="r" b="b"/>
            <a:pathLst>
              <a:path w="3449" h="869">
                <a:moveTo>
                  <a:pt x="7813" y="17909"/>
                </a:moveTo>
                <a:cubicBezTo>
                  <a:pt x="7819" y="18043"/>
                  <a:pt x="7832" y="18172"/>
                  <a:pt x="7838" y="18306"/>
                </a:cubicBezTo>
              </a:path>
              <a:path w="3449" h="869">
                <a:moveTo>
                  <a:pt x="7913" y="17959"/>
                </a:moveTo>
                <a:cubicBezTo>
                  <a:pt x="8023" y="17937"/>
                  <a:pt x="8123" y="17880"/>
                  <a:pt x="8235" y="17859"/>
                </a:cubicBezTo>
                <a:cubicBezTo>
                  <a:pt x="8284" y="17994"/>
                  <a:pt x="8285" y="18112"/>
                  <a:pt x="8285" y="18256"/>
                </a:cubicBezTo>
              </a:path>
              <a:path w="3449" h="869">
                <a:moveTo>
                  <a:pt x="8632" y="17562"/>
                </a:moveTo>
                <a:cubicBezTo>
                  <a:pt x="8664" y="17835"/>
                  <a:pt x="8678" y="18115"/>
                  <a:pt x="8756" y="18380"/>
                </a:cubicBezTo>
                <a:cubicBezTo>
                  <a:pt x="8764" y="18397"/>
                  <a:pt x="8773" y="18413"/>
                  <a:pt x="8781" y="18430"/>
                </a:cubicBezTo>
              </a:path>
              <a:path w="3449" h="869">
                <a:moveTo>
                  <a:pt x="9699" y="17785"/>
                </a:moveTo>
                <a:lnTo>
                  <a:pt x="9699" y="17785"/>
                </a:lnTo>
              </a:path>
              <a:path w="3449" h="869">
                <a:moveTo>
                  <a:pt x="9426" y="17959"/>
                </a:moveTo>
                <a:cubicBezTo>
                  <a:pt x="9426" y="17883"/>
                  <a:pt x="9469" y="18153"/>
                  <a:pt x="9475" y="18182"/>
                </a:cubicBezTo>
                <a:cubicBezTo>
                  <a:pt x="9483" y="18207"/>
                  <a:pt x="9492" y="18231"/>
                  <a:pt x="9500" y="18256"/>
                </a:cubicBezTo>
              </a:path>
              <a:path w="3449" h="869">
                <a:moveTo>
                  <a:pt x="9401" y="18058"/>
                </a:moveTo>
                <a:cubicBezTo>
                  <a:pt x="9520" y="18034"/>
                  <a:pt x="9557" y="18028"/>
                  <a:pt x="9624" y="17983"/>
                </a:cubicBezTo>
              </a:path>
              <a:path w="3449" h="869">
                <a:moveTo>
                  <a:pt x="9922" y="17661"/>
                </a:moveTo>
                <a:cubicBezTo>
                  <a:pt x="9970" y="17852"/>
                  <a:pt x="10015" y="18043"/>
                  <a:pt x="10071" y="18231"/>
                </a:cubicBezTo>
              </a:path>
              <a:path w="3449" h="869">
                <a:moveTo>
                  <a:pt x="10418" y="17711"/>
                </a:moveTo>
                <a:cubicBezTo>
                  <a:pt x="10418" y="17855"/>
                  <a:pt x="10428" y="17970"/>
                  <a:pt x="10468" y="18107"/>
                </a:cubicBezTo>
              </a:path>
              <a:path w="3449" h="869">
                <a:moveTo>
                  <a:pt x="10616" y="17686"/>
                </a:moveTo>
                <a:cubicBezTo>
                  <a:pt x="10699" y="17644"/>
                  <a:pt x="10716" y="17636"/>
                  <a:pt x="10765" y="17611"/>
                </a:cubicBezTo>
                <a:cubicBezTo>
                  <a:pt x="10848" y="17639"/>
                  <a:pt x="10877" y="17845"/>
                  <a:pt x="10889" y="17934"/>
                </a:cubicBezTo>
                <a:cubicBezTo>
                  <a:pt x="10889" y="17967"/>
                  <a:pt x="10889" y="18000"/>
                  <a:pt x="10889" y="18033"/>
                </a:cubicBezTo>
              </a:path>
              <a:path w="3449" h="869">
                <a:moveTo>
                  <a:pt x="9277" y="18182"/>
                </a:moveTo>
                <a:cubicBezTo>
                  <a:pt x="9316" y="18051"/>
                  <a:pt x="9529" y="17963"/>
                  <a:pt x="9376" y="18033"/>
                </a:cubicBezTo>
                <a:cubicBezTo>
                  <a:pt x="9246" y="18092"/>
                  <a:pt x="9136" y="18132"/>
                  <a:pt x="9401" y="17983"/>
                </a:cubicBezTo>
                <a:cubicBezTo>
                  <a:pt x="9576" y="17884"/>
                  <a:pt x="9524" y="17912"/>
                  <a:pt x="9376" y="18008"/>
                </a:cubicBezTo>
                <a:cubicBezTo>
                  <a:pt x="9155" y="18151"/>
                  <a:pt x="9605" y="17882"/>
                  <a:pt x="9649" y="17859"/>
                </a:cubicBezTo>
                <a:cubicBezTo>
                  <a:pt x="9657" y="17851"/>
                  <a:pt x="9666" y="17843"/>
                  <a:pt x="9674" y="17835"/>
                </a:cubicBezTo>
                <a:cubicBezTo>
                  <a:pt x="9528" y="17932"/>
                  <a:pt x="9133" y="18255"/>
                  <a:pt x="9227" y="18107"/>
                </a:cubicBezTo>
                <a:cubicBezTo>
                  <a:pt x="9263" y="18050"/>
                  <a:pt x="9607" y="17843"/>
                  <a:pt x="9475" y="17909"/>
                </a:cubicBezTo>
                <a:cubicBezTo>
                  <a:pt x="9419" y="17949"/>
                  <a:pt x="9039" y="18201"/>
                  <a:pt x="9327" y="18033"/>
                </a:cubicBezTo>
                <a:cubicBezTo>
                  <a:pt x="9501" y="17931"/>
                  <a:pt x="9761" y="17830"/>
                  <a:pt x="9376" y="17983"/>
                </a:cubicBezTo>
                <a:cubicBezTo>
                  <a:pt x="9255" y="18031"/>
                  <a:pt x="8877" y="18186"/>
                  <a:pt x="9227" y="18008"/>
                </a:cubicBezTo>
                <a:cubicBezTo>
                  <a:pt x="9293" y="17975"/>
                  <a:pt x="9360" y="17942"/>
                  <a:pt x="9426" y="17909"/>
                </a:cubicBezTo>
                <a:cubicBezTo>
                  <a:pt x="9651" y="17823"/>
                  <a:pt x="9216" y="18026"/>
                  <a:pt x="9203" y="18033"/>
                </a:cubicBezTo>
              </a:path>
              <a:path w="3449" h="869">
                <a:moveTo>
                  <a:pt x="11137" y="17562"/>
                </a:moveTo>
                <a:cubicBezTo>
                  <a:pt x="11157" y="17764"/>
                  <a:pt x="11236" y="17952"/>
                  <a:pt x="11261" y="18157"/>
                </a:cubicBezTo>
                <a:cubicBezTo>
                  <a:pt x="11261" y="18182"/>
                  <a:pt x="11261" y="18206"/>
                  <a:pt x="11261" y="182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62640" y="5973840"/>
            <a:ext cx="598320" cy="750960"/>
          </a:xfrm>
          <a:custGeom>
            <a:avLst/>
            <a:gdLst/>
            <a:ahLst/>
            <a:rect l="l" t="t" r="r" b="b"/>
            <a:pathLst>
              <a:path w="1663" h="2085">
                <a:moveTo>
                  <a:pt x="13444" y="16694"/>
                </a:moveTo>
                <a:cubicBezTo>
                  <a:pt x="13461" y="16861"/>
                  <a:pt x="13472" y="17024"/>
                  <a:pt x="13494" y="17190"/>
                </a:cubicBezTo>
              </a:path>
              <a:path w="1663" h="2085">
                <a:moveTo>
                  <a:pt x="13692" y="16669"/>
                </a:moveTo>
                <a:cubicBezTo>
                  <a:pt x="13840" y="16638"/>
                  <a:pt x="13989" y="16608"/>
                  <a:pt x="14139" y="16594"/>
                </a:cubicBezTo>
                <a:cubicBezTo>
                  <a:pt x="14139" y="16784"/>
                  <a:pt x="14128" y="16954"/>
                  <a:pt x="14089" y="17140"/>
                </a:cubicBezTo>
              </a:path>
              <a:path w="1663" h="2085">
                <a:moveTo>
                  <a:pt x="12675" y="17686"/>
                </a:moveTo>
                <a:cubicBezTo>
                  <a:pt x="12831" y="17633"/>
                  <a:pt x="12889" y="17615"/>
                  <a:pt x="12998" y="17587"/>
                </a:cubicBezTo>
              </a:path>
              <a:path w="1663" h="2085">
                <a:moveTo>
                  <a:pt x="13519" y="17562"/>
                </a:moveTo>
                <a:cubicBezTo>
                  <a:pt x="13564" y="17653"/>
                  <a:pt x="13589" y="17736"/>
                  <a:pt x="13618" y="17835"/>
                </a:cubicBezTo>
              </a:path>
              <a:path w="1663" h="2085">
                <a:moveTo>
                  <a:pt x="13940" y="17413"/>
                </a:moveTo>
                <a:cubicBezTo>
                  <a:pt x="14049" y="17404"/>
                  <a:pt x="14155" y="17384"/>
                  <a:pt x="14263" y="17363"/>
                </a:cubicBezTo>
                <a:cubicBezTo>
                  <a:pt x="14256" y="17539"/>
                  <a:pt x="14214" y="17717"/>
                  <a:pt x="14238" y="17884"/>
                </a:cubicBezTo>
              </a:path>
              <a:path w="1663" h="2085">
                <a:moveTo>
                  <a:pt x="12998" y="18331"/>
                </a:moveTo>
                <a:cubicBezTo>
                  <a:pt x="13407" y="18180"/>
                  <a:pt x="13801" y="18023"/>
                  <a:pt x="14238" y="17983"/>
                </a:cubicBezTo>
              </a:path>
              <a:path w="1663" h="2085">
                <a:moveTo>
                  <a:pt x="14213" y="18331"/>
                </a:moveTo>
                <a:cubicBezTo>
                  <a:pt x="14050" y="18412"/>
                  <a:pt x="13980" y="18494"/>
                  <a:pt x="13940" y="18678"/>
                </a:cubicBezTo>
                <a:cubicBezTo>
                  <a:pt x="14053" y="18660"/>
                  <a:pt x="14418" y="18593"/>
                  <a:pt x="14337" y="18380"/>
                </a:cubicBezTo>
                <a:cubicBezTo>
                  <a:pt x="14245" y="18311"/>
                  <a:pt x="14220" y="18286"/>
                  <a:pt x="14139" y="183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6759720"/>
            <a:ext cx="98640" cy="19080"/>
          </a:xfrm>
          <a:custGeom>
            <a:avLst/>
            <a:gdLst/>
            <a:ahLst/>
            <a:rect l="l" t="t" r="r" b="b"/>
            <a:pathLst>
              <a:path w="274" h="51">
                <a:moveTo>
                  <a:pt x="3572" y="18802"/>
                </a:moveTo>
                <a:cubicBezTo>
                  <a:pt x="3485" y="18835"/>
                  <a:pt x="3464" y="18808"/>
                  <a:pt x="3373" y="18802"/>
                </a:cubicBezTo>
                <a:cubicBezTo>
                  <a:pt x="3329" y="18802"/>
                  <a:pt x="3315" y="18805"/>
                  <a:pt x="3299" y="187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5 + (-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9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+ (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3 +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+ (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 + 14 + (-10) +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06840" y="3062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0021" y="8508"/>
                </a:moveTo>
                <a:lnTo>
                  <a:pt x="10021" y="850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13200" y="1320840"/>
            <a:ext cx="1509840" cy="563400"/>
          </a:xfrm>
          <a:custGeom>
            <a:avLst/>
            <a:gdLst/>
            <a:ahLst/>
            <a:rect l="l" t="t" r="r" b="b"/>
            <a:pathLst>
              <a:path w="4193" h="1564">
                <a:moveTo>
                  <a:pt x="13370" y="4738"/>
                </a:moveTo>
                <a:cubicBezTo>
                  <a:pt x="13495" y="4711"/>
                  <a:pt x="13613" y="4713"/>
                  <a:pt x="13742" y="4713"/>
                </a:cubicBezTo>
              </a:path>
              <a:path w="4193" h="1564">
                <a:moveTo>
                  <a:pt x="14486" y="4142"/>
                </a:moveTo>
                <a:cubicBezTo>
                  <a:pt x="14335" y="4197"/>
                  <a:pt x="14165" y="4206"/>
                  <a:pt x="14015" y="4266"/>
                </a:cubicBezTo>
                <a:cubicBezTo>
                  <a:pt x="13945" y="4294"/>
                  <a:pt x="14013" y="4530"/>
                  <a:pt x="14015" y="4589"/>
                </a:cubicBezTo>
                <a:cubicBezTo>
                  <a:pt x="14015" y="4605"/>
                  <a:pt x="14015" y="4622"/>
                  <a:pt x="14015" y="4638"/>
                </a:cubicBezTo>
                <a:cubicBezTo>
                  <a:pt x="14150" y="4575"/>
                  <a:pt x="14356" y="4445"/>
                  <a:pt x="14436" y="4663"/>
                </a:cubicBezTo>
                <a:cubicBezTo>
                  <a:pt x="14510" y="4864"/>
                  <a:pt x="14257" y="4987"/>
                  <a:pt x="14114" y="5011"/>
                </a:cubicBezTo>
                <a:cubicBezTo>
                  <a:pt x="14036" y="5011"/>
                  <a:pt x="14018" y="5026"/>
                  <a:pt x="13990" y="4986"/>
                </a:cubicBezTo>
              </a:path>
              <a:path w="4193" h="1564">
                <a:moveTo>
                  <a:pt x="15007" y="4390"/>
                </a:moveTo>
                <a:cubicBezTo>
                  <a:pt x="15024" y="4577"/>
                  <a:pt x="15032" y="4726"/>
                  <a:pt x="15007" y="4911"/>
                </a:cubicBezTo>
              </a:path>
              <a:path w="4193" h="1564">
                <a:moveTo>
                  <a:pt x="14858" y="4688"/>
                </a:moveTo>
                <a:cubicBezTo>
                  <a:pt x="14969" y="4672"/>
                  <a:pt x="15098" y="4661"/>
                  <a:pt x="15205" y="4638"/>
                </a:cubicBezTo>
                <a:cubicBezTo>
                  <a:pt x="15299" y="4618"/>
                  <a:pt x="15243" y="4590"/>
                  <a:pt x="15329" y="4663"/>
                </a:cubicBezTo>
              </a:path>
              <a:path w="4193" h="1564">
                <a:moveTo>
                  <a:pt x="15776" y="4539"/>
                </a:moveTo>
                <a:cubicBezTo>
                  <a:pt x="15858" y="4552"/>
                  <a:pt x="15887" y="4551"/>
                  <a:pt x="15974" y="4539"/>
                </a:cubicBezTo>
              </a:path>
              <a:path w="4193" h="1564">
                <a:moveTo>
                  <a:pt x="16321" y="4167"/>
                </a:moveTo>
                <a:cubicBezTo>
                  <a:pt x="16347" y="4389"/>
                  <a:pt x="16355" y="4615"/>
                  <a:pt x="16321" y="4837"/>
                </a:cubicBezTo>
                <a:cubicBezTo>
                  <a:pt x="16313" y="4862"/>
                  <a:pt x="16305" y="4886"/>
                  <a:pt x="16297" y="4911"/>
                </a:cubicBezTo>
              </a:path>
              <a:path w="4193" h="1564">
                <a:moveTo>
                  <a:pt x="16669" y="4142"/>
                </a:moveTo>
                <a:cubicBezTo>
                  <a:pt x="16733" y="4311"/>
                  <a:pt x="16680" y="4496"/>
                  <a:pt x="16669" y="4688"/>
                </a:cubicBezTo>
                <a:cubicBezTo>
                  <a:pt x="16669" y="4779"/>
                  <a:pt x="16669" y="4787"/>
                  <a:pt x="16669" y="4837"/>
                </a:cubicBezTo>
              </a:path>
              <a:path w="4193" h="1564">
                <a:moveTo>
                  <a:pt x="17115" y="4490"/>
                </a:moveTo>
                <a:cubicBezTo>
                  <a:pt x="17255" y="4490"/>
                  <a:pt x="17376" y="4470"/>
                  <a:pt x="17512" y="4440"/>
                </a:cubicBezTo>
              </a:path>
              <a:path w="4193" h="1564">
                <a:moveTo>
                  <a:pt x="17165" y="4787"/>
                </a:moveTo>
                <a:cubicBezTo>
                  <a:pt x="17300" y="4744"/>
                  <a:pt x="17423" y="4705"/>
                  <a:pt x="17562" y="4688"/>
                </a:cubicBezTo>
              </a:path>
              <a:path w="4193" h="1564">
                <a:moveTo>
                  <a:pt x="15553" y="4018"/>
                </a:moveTo>
                <a:cubicBezTo>
                  <a:pt x="15493" y="4147"/>
                  <a:pt x="15407" y="4301"/>
                  <a:pt x="15379" y="4440"/>
                </a:cubicBezTo>
                <a:cubicBezTo>
                  <a:pt x="15335" y="4661"/>
                  <a:pt x="15336" y="4858"/>
                  <a:pt x="15429" y="5060"/>
                </a:cubicBezTo>
                <a:cubicBezTo>
                  <a:pt x="15487" y="5187"/>
                  <a:pt x="15513" y="5191"/>
                  <a:pt x="15627" y="5234"/>
                </a:cubicBezTo>
              </a:path>
              <a:path w="4193" h="1564">
                <a:moveTo>
                  <a:pt x="16619" y="3671"/>
                </a:moveTo>
                <a:cubicBezTo>
                  <a:pt x="16743" y="3749"/>
                  <a:pt x="16757" y="3829"/>
                  <a:pt x="16793" y="3969"/>
                </a:cubicBezTo>
                <a:cubicBezTo>
                  <a:pt x="16823" y="4083"/>
                  <a:pt x="16872" y="4201"/>
                  <a:pt x="16892" y="4316"/>
                </a:cubicBezTo>
                <a:cubicBezTo>
                  <a:pt x="16906" y="4397"/>
                  <a:pt x="16924" y="4483"/>
                  <a:pt x="16942" y="4564"/>
                </a:cubicBezTo>
                <a:cubicBezTo>
                  <a:pt x="16959" y="4642"/>
                  <a:pt x="16964" y="4754"/>
                  <a:pt x="16942" y="4837"/>
                </a:cubicBezTo>
                <a:cubicBezTo>
                  <a:pt x="16921" y="4917"/>
                  <a:pt x="16905" y="4984"/>
                  <a:pt x="16867" y="5060"/>
                </a:cubicBezTo>
                <a:cubicBezTo>
                  <a:pt x="16834" y="5125"/>
                  <a:pt x="16803" y="5146"/>
                  <a:pt x="16743" y="51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98720" y="1482840"/>
            <a:ext cx="285480" cy="303120"/>
          </a:xfrm>
          <a:custGeom>
            <a:avLst/>
            <a:gdLst/>
            <a:ahLst/>
            <a:rect l="l" t="t" r="r" b="b"/>
            <a:pathLst>
              <a:path w="795" h="844">
                <a:moveTo>
                  <a:pt x="3051" y="4242"/>
                </a:moveTo>
                <a:cubicBezTo>
                  <a:pt x="3059" y="4225"/>
                  <a:pt x="3068" y="4209"/>
                  <a:pt x="3076" y="4192"/>
                </a:cubicBezTo>
                <a:cubicBezTo>
                  <a:pt x="3085" y="4311"/>
                  <a:pt x="3105" y="4424"/>
                  <a:pt x="3125" y="4539"/>
                </a:cubicBezTo>
                <a:cubicBezTo>
                  <a:pt x="3138" y="4612"/>
                  <a:pt x="3167" y="4687"/>
                  <a:pt x="3175" y="4762"/>
                </a:cubicBezTo>
                <a:cubicBezTo>
                  <a:pt x="3175" y="4871"/>
                  <a:pt x="3170" y="4898"/>
                  <a:pt x="3200" y="4961"/>
                </a:cubicBezTo>
              </a:path>
              <a:path w="795" h="844">
                <a:moveTo>
                  <a:pt x="3646" y="4316"/>
                </a:moveTo>
                <a:cubicBezTo>
                  <a:pt x="3559" y="4359"/>
                  <a:pt x="3399" y="4297"/>
                  <a:pt x="3373" y="4390"/>
                </a:cubicBezTo>
                <a:cubicBezTo>
                  <a:pt x="3373" y="4489"/>
                  <a:pt x="3373" y="4506"/>
                  <a:pt x="3373" y="4564"/>
                </a:cubicBezTo>
                <a:cubicBezTo>
                  <a:pt x="3449" y="4556"/>
                  <a:pt x="3521" y="4545"/>
                  <a:pt x="3597" y="4539"/>
                </a:cubicBezTo>
                <a:cubicBezTo>
                  <a:pt x="3660" y="4646"/>
                  <a:pt x="3680" y="4801"/>
                  <a:pt x="3497" y="4812"/>
                </a:cubicBezTo>
                <a:cubicBezTo>
                  <a:pt x="3464" y="4804"/>
                  <a:pt x="3431" y="4795"/>
                  <a:pt x="3398" y="4787"/>
                </a:cubicBezTo>
              </a:path>
              <a:path w="795" h="844">
                <a:moveTo>
                  <a:pt x="3746" y="4118"/>
                </a:moveTo>
                <a:cubicBezTo>
                  <a:pt x="3815" y="4343"/>
                  <a:pt x="3845" y="4527"/>
                  <a:pt x="3845" y="4762"/>
                </a:cubicBezTo>
                <a:cubicBezTo>
                  <a:pt x="3845" y="4820"/>
                  <a:pt x="3845" y="4829"/>
                  <a:pt x="3845" y="4862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71760" y="1554120"/>
            <a:ext cx="98280" cy="88920"/>
          </a:xfrm>
          <a:custGeom>
            <a:avLst/>
            <a:gdLst/>
            <a:ahLst/>
            <a:rect l="l" t="t" r="r" b="b"/>
            <a:pathLst>
              <a:path w="273" h="249">
                <a:moveTo>
                  <a:pt x="4440" y="4316"/>
                </a:moveTo>
                <a:cubicBezTo>
                  <a:pt x="4447" y="4402"/>
                  <a:pt x="4465" y="4477"/>
                  <a:pt x="4465" y="4564"/>
                </a:cubicBezTo>
              </a:path>
              <a:path w="273" h="249">
                <a:moveTo>
                  <a:pt x="4366" y="4465"/>
                </a:moveTo>
                <a:cubicBezTo>
                  <a:pt x="4458" y="4458"/>
                  <a:pt x="4562" y="4454"/>
                  <a:pt x="4638" y="4415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00160" y="1490760"/>
            <a:ext cx="19080" cy="241200"/>
          </a:xfrm>
          <a:custGeom>
            <a:avLst/>
            <a:gdLst/>
            <a:ahLst/>
            <a:rect l="l" t="t" r="r" b="b"/>
            <a:pathLst>
              <a:path w="51" h="671">
                <a:moveTo>
                  <a:pt x="5606" y="4142"/>
                </a:moveTo>
                <a:cubicBezTo>
                  <a:pt x="5561" y="4373"/>
                  <a:pt x="5537" y="4580"/>
                  <a:pt x="5581" y="4812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25800" y="1562040"/>
            <a:ext cx="106200" cy="152640"/>
          </a:xfrm>
          <a:custGeom>
            <a:avLst/>
            <a:gdLst/>
            <a:ahLst/>
            <a:rect l="l" t="t" r="r" b="b"/>
            <a:pathLst>
              <a:path w="298" h="422">
                <a:moveTo>
                  <a:pt x="5928" y="4390"/>
                </a:moveTo>
                <a:cubicBezTo>
                  <a:pt x="5913" y="4510"/>
                  <a:pt x="5904" y="4617"/>
                  <a:pt x="5904" y="4738"/>
                </a:cubicBezTo>
              </a:path>
              <a:path w="298" h="422">
                <a:moveTo>
                  <a:pt x="6127" y="4341"/>
                </a:moveTo>
                <a:cubicBezTo>
                  <a:pt x="6151" y="4481"/>
                  <a:pt x="6174" y="4625"/>
                  <a:pt x="6201" y="4762"/>
                </a:cubicBezTo>
                <a:cubicBezTo>
                  <a:pt x="6201" y="4754"/>
                  <a:pt x="6201" y="4746"/>
                  <a:pt x="6201" y="4738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7000" y="1482840"/>
            <a:ext cx="17280" cy="231840"/>
          </a:xfrm>
          <a:custGeom>
            <a:avLst/>
            <a:gdLst/>
            <a:ahLst/>
            <a:rect l="l" t="t" r="r" b="b"/>
            <a:pathLst>
              <a:path w="51" h="645">
                <a:moveTo>
                  <a:pt x="6598" y="4118"/>
                </a:moveTo>
                <a:cubicBezTo>
                  <a:pt x="6580" y="4335"/>
                  <a:pt x="6613" y="4543"/>
                  <a:pt x="6623" y="4762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44840" y="1544760"/>
            <a:ext cx="142920" cy="8100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7069" y="4291"/>
                </a:moveTo>
                <a:cubicBezTo>
                  <a:pt x="7165" y="4315"/>
                  <a:pt x="7241" y="4316"/>
                  <a:pt x="7342" y="4316"/>
                </a:cubicBezTo>
              </a:path>
              <a:path w="398" h="224">
                <a:moveTo>
                  <a:pt x="7193" y="4465"/>
                </a:moveTo>
                <a:cubicBezTo>
                  <a:pt x="7273" y="4472"/>
                  <a:pt x="7349" y="4501"/>
                  <a:pt x="7417" y="4514"/>
                </a:cubicBezTo>
                <a:cubicBezTo>
                  <a:pt x="7433" y="4514"/>
                  <a:pt x="7450" y="4514"/>
                  <a:pt x="7466" y="4514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86040" y="1608120"/>
            <a:ext cx="71640" cy="1440"/>
          </a:xfrm>
          <a:custGeom>
            <a:avLst/>
            <a:gdLst/>
            <a:ahLst/>
            <a:rect l="l" t="t" r="r" b="b"/>
            <a:pathLst>
              <a:path w="200" h="1">
                <a:moveTo>
                  <a:pt x="7789" y="4465"/>
                </a:moveTo>
                <a:cubicBezTo>
                  <a:pt x="7772" y="4465"/>
                  <a:pt x="7756" y="4465"/>
                  <a:pt x="7739" y="4465"/>
                </a:cubicBezTo>
                <a:cubicBezTo>
                  <a:pt x="7805" y="4465"/>
                  <a:pt x="7872" y="4465"/>
                  <a:pt x="7938" y="4465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55960" y="1517760"/>
            <a:ext cx="44280" cy="206280"/>
          </a:xfrm>
          <a:custGeom>
            <a:avLst/>
            <a:gdLst/>
            <a:ahLst/>
            <a:rect l="l" t="t" r="r" b="b"/>
            <a:pathLst>
              <a:path w="125" h="571">
                <a:moveTo>
                  <a:pt x="8210" y="4217"/>
                </a:moveTo>
                <a:cubicBezTo>
                  <a:pt x="8309" y="4404"/>
                  <a:pt x="8324" y="4571"/>
                  <a:pt x="8334" y="4787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06800" y="1517760"/>
            <a:ext cx="125280" cy="18864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8657" y="4217"/>
                </a:moveTo>
                <a:cubicBezTo>
                  <a:pt x="8657" y="4339"/>
                  <a:pt x="8623" y="4502"/>
                  <a:pt x="8632" y="4614"/>
                </a:cubicBezTo>
                <a:cubicBezTo>
                  <a:pt x="8636" y="4666"/>
                  <a:pt x="8725" y="4753"/>
                  <a:pt x="8781" y="4738"/>
                </a:cubicBezTo>
                <a:cubicBezTo>
                  <a:pt x="8877" y="4712"/>
                  <a:pt x="8914" y="4644"/>
                  <a:pt x="8954" y="4564"/>
                </a:cubicBezTo>
                <a:cubicBezTo>
                  <a:pt x="8987" y="4496"/>
                  <a:pt x="9007" y="4426"/>
                  <a:pt x="8930" y="4390"/>
                </a:cubicBezTo>
                <a:cubicBezTo>
                  <a:pt x="8898" y="4375"/>
                  <a:pt x="8820" y="4411"/>
                  <a:pt x="8781" y="4415"/>
                </a:cubicBezTo>
                <a:cubicBezTo>
                  <a:pt x="8781" y="4512"/>
                  <a:pt x="8772" y="4599"/>
                  <a:pt x="8806" y="4688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2125800"/>
            <a:ext cx="554040" cy="295200"/>
          </a:xfrm>
          <a:custGeom>
            <a:avLst/>
            <a:gdLst/>
            <a:ahLst/>
            <a:rect l="l" t="t" r="r" b="b"/>
            <a:pathLst>
              <a:path w="1539" h="819">
                <a:moveTo>
                  <a:pt x="4217" y="6499"/>
                </a:moveTo>
                <a:cubicBezTo>
                  <a:pt x="4305" y="6472"/>
                  <a:pt x="4372" y="6474"/>
                  <a:pt x="4465" y="6474"/>
                </a:cubicBezTo>
                <a:cubicBezTo>
                  <a:pt x="4534" y="6474"/>
                  <a:pt x="4590" y="6449"/>
                  <a:pt x="4663" y="6449"/>
                </a:cubicBezTo>
                <a:cubicBezTo>
                  <a:pt x="4680" y="6449"/>
                  <a:pt x="4696" y="6449"/>
                  <a:pt x="4713" y="6449"/>
                </a:cubicBezTo>
              </a:path>
              <a:path w="1539" h="819">
                <a:moveTo>
                  <a:pt x="3597" y="6201"/>
                </a:moveTo>
                <a:cubicBezTo>
                  <a:pt x="3623" y="6156"/>
                  <a:pt x="3609" y="6022"/>
                  <a:pt x="3522" y="6077"/>
                </a:cubicBezTo>
                <a:cubicBezTo>
                  <a:pt x="3451" y="6121"/>
                  <a:pt x="3396" y="6265"/>
                  <a:pt x="3473" y="6325"/>
                </a:cubicBezTo>
                <a:cubicBezTo>
                  <a:pt x="3579" y="6407"/>
                  <a:pt x="3596" y="6261"/>
                  <a:pt x="3621" y="6201"/>
                </a:cubicBezTo>
                <a:cubicBezTo>
                  <a:pt x="3621" y="6185"/>
                  <a:pt x="3621" y="6168"/>
                  <a:pt x="3621" y="6152"/>
                </a:cubicBezTo>
                <a:cubicBezTo>
                  <a:pt x="3662" y="6294"/>
                  <a:pt x="3667" y="6432"/>
                  <a:pt x="3696" y="6573"/>
                </a:cubicBezTo>
              </a:path>
              <a:path w="1539" h="819">
                <a:moveTo>
                  <a:pt x="3175" y="6201"/>
                </a:moveTo>
                <a:cubicBezTo>
                  <a:pt x="3200" y="6377"/>
                  <a:pt x="3214" y="6556"/>
                  <a:pt x="3274" y="6722"/>
                </a:cubicBezTo>
              </a:path>
              <a:path w="1539" h="819">
                <a:moveTo>
                  <a:pt x="3894" y="5904"/>
                </a:moveTo>
                <a:cubicBezTo>
                  <a:pt x="3913" y="6111"/>
                  <a:pt x="3948" y="6317"/>
                  <a:pt x="3969" y="6524"/>
                </a:cubicBezTo>
                <a:cubicBezTo>
                  <a:pt x="3969" y="6540"/>
                  <a:pt x="3969" y="6557"/>
                  <a:pt x="3969" y="6573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9960" y="2143080"/>
            <a:ext cx="347760" cy="285840"/>
          </a:xfrm>
          <a:custGeom>
            <a:avLst/>
            <a:gdLst/>
            <a:ahLst/>
            <a:rect l="l" t="t" r="r" b="b"/>
            <a:pathLst>
              <a:path w="968" h="795">
                <a:moveTo>
                  <a:pt x="5110" y="6003"/>
                </a:moveTo>
                <a:cubicBezTo>
                  <a:pt x="5142" y="6240"/>
                  <a:pt x="5169" y="6467"/>
                  <a:pt x="5234" y="6697"/>
                </a:cubicBezTo>
              </a:path>
              <a:path w="968" h="795">
                <a:moveTo>
                  <a:pt x="5482" y="6176"/>
                </a:moveTo>
                <a:cubicBezTo>
                  <a:pt x="5482" y="6251"/>
                  <a:pt x="5461" y="6493"/>
                  <a:pt x="5531" y="6548"/>
                </a:cubicBezTo>
                <a:cubicBezTo>
                  <a:pt x="5556" y="6548"/>
                  <a:pt x="5581" y="6548"/>
                  <a:pt x="5606" y="6548"/>
                </a:cubicBezTo>
                <a:cubicBezTo>
                  <a:pt x="5650" y="6505"/>
                  <a:pt x="5769" y="6422"/>
                  <a:pt x="5755" y="6350"/>
                </a:cubicBezTo>
                <a:cubicBezTo>
                  <a:pt x="5747" y="6333"/>
                  <a:pt x="5738" y="6317"/>
                  <a:pt x="5730" y="6300"/>
                </a:cubicBezTo>
                <a:cubicBezTo>
                  <a:pt x="5627" y="6341"/>
                  <a:pt x="5639" y="6422"/>
                  <a:pt x="5631" y="6524"/>
                </a:cubicBezTo>
              </a:path>
              <a:path w="968" h="795">
                <a:moveTo>
                  <a:pt x="5953" y="5953"/>
                </a:moveTo>
                <a:cubicBezTo>
                  <a:pt x="5974" y="6189"/>
                  <a:pt x="6005" y="6437"/>
                  <a:pt x="6052" y="6672"/>
                </a:cubicBezTo>
                <a:cubicBezTo>
                  <a:pt x="6060" y="6697"/>
                  <a:pt x="6069" y="6722"/>
                  <a:pt x="6077" y="6747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46200" y="2303640"/>
            <a:ext cx="581040" cy="223560"/>
          </a:xfrm>
          <a:custGeom>
            <a:avLst/>
            <a:gdLst/>
            <a:ahLst/>
            <a:rect l="l" t="t" r="r" b="b"/>
            <a:pathLst>
              <a:path w="1614" h="621">
                <a:moveTo>
                  <a:pt x="6796" y="6697"/>
                </a:moveTo>
                <a:cubicBezTo>
                  <a:pt x="6904" y="6691"/>
                  <a:pt x="7011" y="6679"/>
                  <a:pt x="7119" y="6672"/>
                </a:cubicBezTo>
              </a:path>
              <a:path w="1614" h="621">
                <a:moveTo>
                  <a:pt x="6896" y="6995"/>
                </a:moveTo>
                <a:cubicBezTo>
                  <a:pt x="7004" y="6965"/>
                  <a:pt x="7092" y="6934"/>
                  <a:pt x="7193" y="6896"/>
                </a:cubicBezTo>
              </a:path>
              <a:path w="1614" h="621">
                <a:moveTo>
                  <a:pt x="8012" y="6449"/>
                </a:moveTo>
                <a:cubicBezTo>
                  <a:pt x="8074" y="6426"/>
                  <a:pt x="8338" y="6322"/>
                  <a:pt x="8285" y="6524"/>
                </a:cubicBezTo>
                <a:cubicBezTo>
                  <a:pt x="8253" y="6644"/>
                  <a:pt x="8156" y="6690"/>
                  <a:pt x="8062" y="6747"/>
                </a:cubicBezTo>
                <a:cubicBezTo>
                  <a:pt x="8119" y="6641"/>
                  <a:pt x="8265" y="6531"/>
                  <a:pt x="8384" y="6672"/>
                </a:cubicBezTo>
                <a:cubicBezTo>
                  <a:pt x="8563" y="6885"/>
                  <a:pt x="8154" y="6999"/>
                  <a:pt x="8037" y="7020"/>
                </a:cubicBezTo>
                <a:cubicBezTo>
                  <a:pt x="8020" y="7020"/>
                  <a:pt x="8004" y="7020"/>
                  <a:pt x="7987" y="7020"/>
                </a:cubicBezTo>
              </a:path>
              <a:path w="1614" h="621">
                <a:moveTo>
                  <a:pt x="7417" y="6796"/>
                </a:moveTo>
                <a:cubicBezTo>
                  <a:pt x="7512" y="6796"/>
                  <a:pt x="7582" y="6777"/>
                  <a:pt x="7665" y="6772"/>
                </a:cubicBezTo>
                <a:cubicBezTo>
                  <a:pt x="7706" y="6772"/>
                  <a:pt x="7714" y="6772"/>
                  <a:pt x="7739" y="6772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2751120"/>
            <a:ext cx="260280" cy="231840"/>
          </a:xfrm>
          <a:custGeom>
            <a:avLst/>
            <a:gdLst/>
            <a:ahLst/>
            <a:rect l="l" t="t" r="r" b="b"/>
            <a:pathLst>
              <a:path w="721" h="646">
                <a:moveTo>
                  <a:pt x="2753" y="7640"/>
                </a:moveTo>
                <a:cubicBezTo>
                  <a:pt x="2780" y="7838"/>
                  <a:pt x="2811" y="8037"/>
                  <a:pt x="2828" y="8235"/>
                </a:cubicBezTo>
              </a:path>
              <a:path w="721" h="646">
                <a:moveTo>
                  <a:pt x="3175" y="7789"/>
                </a:moveTo>
                <a:cubicBezTo>
                  <a:pt x="3075" y="7850"/>
                  <a:pt x="3023" y="7933"/>
                  <a:pt x="3026" y="8062"/>
                </a:cubicBezTo>
                <a:cubicBezTo>
                  <a:pt x="3032" y="8275"/>
                  <a:pt x="3213" y="8170"/>
                  <a:pt x="3249" y="8037"/>
                </a:cubicBezTo>
                <a:cubicBezTo>
                  <a:pt x="3269" y="7964"/>
                  <a:pt x="3221" y="7946"/>
                  <a:pt x="3175" y="7913"/>
                </a:cubicBezTo>
              </a:path>
              <a:path w="721" h="646">
                <a:moveTo>
                  <a:pt x="3423" y="7689"/>
                </a:moveTo>
                <a:cubicBezTo>
                  <a:pt x="3433" y="7872"/>
                  <a:pt x="3454" y="8054"/>
                  <a:pt x="3473" y="8235"/>
                </a:cubicBezTo>
                <a:cubicBezTo>
                  <a:pt x="3473" y="8252"/>
                  <a:pt x="3473" y="8268"/>
                  <a:pt x="3473" y="8285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55840" y="2874960"/>
            <a:ext cx="115920" cy="9360"/>
          </a:xfrm>
          <a:custGeom>
            <a:avLst/>
            <a:gdLst/>
            <a:ahLst/>
            <a:rect l="l" t="t" r="r" b="b"/>
            <a:pathLst>
              <a:path w="324" h="26">
                <a:moveTo>
                  <a:pt x="4043" y="8012"/>
                </a:moveTo>
                <a:cubicBezTo>
                  <a:pt x="4151" y="8012"/>
                  <a:pt x="4273" y="8027"/>
                  <a:pt x="4366" y="7987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12960" y="2687760"/>
            <a:ext cx="366840" cy="401400"/>
          </a:xfrm>
          <a:custGeom>
            <a:avLst/>
            <a:gdLst/>
            <a:ahLst/>
            <a:rect l="l" t="t" r="r" b="b"/>
            <a:pathLst>
              <a:path w="1018" h="1117">
                <a:moveTo>
                  <a:pt x="5184" y="8582"/>
                </a:moveTo>
                <a:lnTo>
                  <a:pt x="5184" y="8582"/>
                </a:lnTo>
              </a:path>
              <a:path w="1018" h="1117">
                <a:moveTo>
                  <a:pt x="5035" y="7764"/>
                </a:moveTo>
                <a:cubicBezTo>
                  <a:pt x="5043" y="7747"/>
                  <a:pt x="5052" y="7731"/>
                  <a:pt x="5060" y="7714"/>
                </a:cubicBezTo>
                <a:cubicBezTo>
                  <a:pt x="5060" y="7874"/>
                  <a:pt x="5054" y="8031"/>
                  <a:pt x="5085" y="8186"/>
                </a:cubicBezTo>
              </a:path>
              <a:path w="1018" h="1117">
                <a:moveTo>
                  <a:pt x="5308" y="7863"/>
                </a:moveTo>
                <a:cubicBezTo>
                  <a:pt x="5324" y="7765"/>
                  <a:pt x="5410" y="7826"/>
                  <a:pt x="5507" y="7813"/>
                </a:cubicBezTo>
                <a:cubicBezTo>
                  <a:pt x="5540" y="7805"/>
                  <a:pt x="5573" y="7797"/>
                  <a:pt x="5606" y="7789"/>
                </a:cubicBezTo>
                <a:cubicBezTo>
                  <a:pt x="5597" y="7914"/>
                  <a:pt x="5581" y="8034"/>
                  <a:pt x="5581" y="8161"/>
                </a:cubicBezTo>
              </a:path>
              <a:path w="1018" h="1117">
                <a:moveTo>
                  <a:pt x="5879" y="7466"/>
                </a:moveTo>
                <a:cubicBezTo>
                  <a:pt x="5902" y="7654"/>
                  <a:pt x="5913" y="7851"/>
                  <a:pt x="5953" y="8037"/>
                </a:cubicBezTo>
                <a:cubicBezTo>
                  <a:pt x="5961" y="8062"/>
                  <a:pt x="5970" y="8086"/>
                  <a:pt x="5978" y="8111"/>
                </a:cubicBezTo>
              </a:path>
              <a:path w="1018" h="1117">
                <a:moveTo>
                  <a:pt x="5060" y="7962"/>
                </a:moveTo>
                <a:cubicBezTo>
                  <a:pt x="5110" y="8099"/>
                  <a:pt x="5168" y="8118"/>
                  <a:pt x="5283" y="8210"/>
                </a:cubicBezTo>
                <a:cubicBezTo>
                  <a:pt x="5369" y="8279"/>
                  <a:pt x="5491" y="8216"/>
                  <a:pt x="5581" y="8186"/>
                </a:cubicBezTo>
                <a:cubicBezTo>
                  <a:pt x="5692" y="8149"/>
                  <a:pt x="5809" y="8106"/>
                  <a:pt x="5904" y="8037"/>
                </a:cubicBezTo>
                <a:cubicBezTo>
                  <a:pt x="5962" y="7995"/>
                  <a:pt x="6039" y="7940"/>
                  <a:pt x="6052" y="7863"/>
                </a:cubicBezTo>
                <a:cubicBezTo>
                  <a:pt x="6064" y="7792"/>
                  <a:pt x="6055" y="7647"/>
                  <a:pt x="6003" y="7590"/>
                </a:cubicBezTo>
                <a:cubicBezTo>
                  <a:pt x="5916" y="7495"/>
                  <a:pt x="5784" y="7509"/>
                  <a:pt x="5680" y="7516"/>
                </a:cubicBezTo>
                <a:cubicBezTo>
                  <a:pt x="5551" y="7524"/>
                  <a:pt x="5426" y="7554"/>
                  <a:pt x="5308" y="7615"/>
                </a:cubicBezTo>
                <a:cubicBezTo>
                  <a:pt x="5214" y="7664"/>
                  <a:pt x="5117" y="7726"/>
                  <a:pt x="5060" y="7813"/>
                </a:cubicBezTo>
                <a:cubicBezTo>
                  <a:pt x="4995" y="7912"/>
                  <a:pt x="5056" y="8000"/>
                  <a:pt x="5110" y="8086"/>
                </a:cubicBezTo>
                <a:cubicBezTo>
                  <a:pt x="5164" y="8172"/>
                  <a:pt x="5282" y="8227"/>
                  <a:pt x="5383" y="8235"/>
                </a:cubicBezTo>
                <a:cubicBezTo>
                  <a:pt x="5467" y="8242"/>
                  <a:pt x="5554" y="8214"/>
                  <a:pt x="5631" y="8186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0200" y="2670120"/>
            <a:ext cx="544680" cy="285840"/>
          </a:xfrm>
          <a:custGeom>
            <a:avLst/>
            <a:gdLst/>
            <a:ahLst/>
            <a:rect l="l" t="t" r="r" b="b"/>
            <a:pathLst>
              <a:path w="1514" h="794">
                <a:moveTo>
                  <a:pt x="6945" y="8037"/>
                </a:moveTo>
                <a:cubicBezTo>
                  <a:pt x="7069" y="8019"/>
                  <a:pt x="7193" y="7980"/>
                  <a:pt x="7317" y="7962"/>
                </a:cubicBezTo>
                <a:cubicBezTo>
                  <a:pt x="7334" y="7962"/>
                  <a:pt x="7350" y="7962"/>
                  <a:pt x="7367" y="7962"/>
                </a:cubicBezTo>
              </a:path>
              <a:path w="1514" h="794">
                <a:moveTo>
                  <a:pt x="7045" y="8210"/>
                </a:moveTo>
                <a:cubicBezTo>
                  <a:pt x="7159" y="8200"/>
                  <a:pt x="7261" y="8179"/>
                  <a:pt x="7367" y="8136"/>
                </a:cubicBezTo>
              </a:path>
              <a:path w="1514" h="794">
                <a:moveTo>
                  <a:pt x="7962" y="7541"/>
                </a:moveTo>
                <a:cubicBezTo>
                  <a:pt x="8101" y="7501"/>
                  <a:pt x="8247" y="7452"/>
                  <a:pt x="8384" y="7417"/>
                </a:cubicBezTo>
                <a:cubicBezTo>
                  <a:pt x="8401" y="7417"/>
                  <a:pt x="8417" y="7417"/>
                  <a:pt x="8434" y="7417"/>
                </a:cubicBezTo>
                <a:cubicBezTo>
                  <a:pt x="8462" y="7660"/>
                  <a:pt x="8381" y="7871"/>
                  <a:pt x="8334" y="8111"/>
                </a:cubicBezTo>
                <a:cubicBezTo>
                  <a:pt x="8334" y="8128"/>
                  <a:pt x="8334" y="8144"/>
                  <a:pt x="8334" y="8161"/>
                </a:cubicBezTo>
              </a:path>
              <a:path w="1514" h="794">
                <a:moveTo>
                  <a:pt x="7789" y="7888"/>
                </a:moveTo>
                <a:cubicBezTo>
                  <a:pt x="7867" y="7875"/>
                  <a:pt x="7930" y="7863"/>
                  <a:pt x="8012" y="7863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41280" y="3375000"/>
            <a:ext cx="196920" cy="169920"/>
          </a:xfrm>
          <a:custGeom>
            <a:avLst/>
            <a:gdLst/>
            <a:ahLst/>
            <a:rect l="l" t="t" r="r" b="b"/>
            <a:pathLst>
              <a:path w="547" h="472">
                <a:moveTo>
                  <a:pt x="3473" y="9451"/>
                </a:moveTo>
                <a:cubicBezTo>
                  <a:pt x="3465" y="9583"/>
                  <a:pt x="3454" y="9714"/>
                  <a:pt x="3448" y="9847"/>
                </a:cubicBezTo>
              </a:path>
              <a:path w="547" h="472">
                <a:moveTo>
                  <a:pt x="3696" y="9426"/>
                </a:moveTo>
                <a:cubicBezTo>
                  <a:pt x="3831" y="9377"/>
                  <a:pt x="3909" y="9414"/>
                  <a:pt x="3795" y="9550"/>
                </a:cubicBezTo>
                <a:cubicBezTo>
                  <a:pt x="3795" y="9542"/>
                  <a:pt x="3795" y="9533"/>
                  <a:pt x="3795" y="9525"/>
                </a:cubicBezTo>
                <a:cubicBezTo>
                  <a:pt x="3877" y="9511"/>
                  <a:pt x="4068" y="9512"/>
                  <a:pt x="3994" y="9674"/>
                </a:cubicBezTo>
                <a:cubicBezTo>
                  <a:pt x="3937" y="9799"/>
                  <a:pt x="3845" y="9780"/>
                  <a:pt x="3746" y="9773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8320" y="3295800"/>
            <a:ext cx="1536840" cy="303120"/>
          </a:xfrm>
          <a:custGeom>
            <a:avLst/>
            <a:gdLst/>
            <a:ahLst/>
            <a:rect l="l" t="t" r="r" b="b"/>
            <a:pathLst>
              <a:path w="4268" h="844">
                <a:moveTo>
                  <a:pt x="5035" y="9674"/>
                </a:moveTo>
                <a:cubicBezTo>
                  <a:pt x="4987" y="9698"/>
                  <a:pt x="4973" y="9707"/>
                  <a:pt x="4936" y="9699"/>
                </a:cubicBezTo>
                <a:cubicBezTo>
                  <a:pt x="5019" y="9699"/>
                  <a:pt x="5052" y="9699"/>
                  <a:pt x="5135" y="9699"/>
                </a:cubicBezTo>
                <a:cubicBezTo>
                  <a:pt x="5184" y="9699"/>
                  <a:pt x="5234" y="9699"/>
                  <a:pt x="5283" y="9699"/>
                </a:cubicBezTo>
              </a:path>
              <a:path w="4268" h="844">
                <a:moveTo>
                  <a:pt x="6028" y="9475"/>
                </a:moveTo>
                <a:cubicBezTo>
                  <a:pt x="6047" y="9590"/>
                  <a:pt x="6069" y="9713"/>
                  <a:pt x="6102" y="9823"/>
                </a:cubicBezTo>
              </a:path>
              <a:path w="4268" h="844">
                <a:moveTo>
                  <a:pt x="6573" y="9376"/>
                </a:moveTo>
                <a:cubicBezTo>
                  <a:pt x="6539" y="9388"/>
                  <a:pt x="6368" y="9409"/>
                  <a:pt x="6350" y="9426"/>
                </a:cubicBezTo>
                <a:cubicBezTo>
                  <a:pt x="6322" y="9481"/>
                  <a:pt x="6314" y="9504"/>
                  <a:pt x="6325" y="9550"/>
                </a:cubicBezTo>
                <a:cubicBezTo>
                  <a:pt x="6390" y="9559"/>
                  <a:pt x="6527" y="9433"/>
                  <a:pt x="6598" y="9475"/>
                </a:cubicBezTo>
                <a:cubicBezTo>
                  <a:pt x="6721" y="9548"/>
                  <a:pt x="6629" y="9702"/>
                  <a:pt x="6548" y="9748"/>
                </a:cubicBezTo>
                <a:cubicBezTo>
                  <a:pt x="6490" y="9780"/>
                  <a:pt x="6437" y="9773"/>
                  <a:pt x="6375" y="9773"/>
                </a:cubicBezTo>
              </a:path>
              <a:path w="4268" h="844">
                <a:moveTo>
                  <a:pt x="7441" y="9599"/>
                </a:moveTo>
                <a:cubicBezTo>
                  <a:pt x="7425" y="9591"/>
                  <a:pt x="7408" y="9583"/>
                  <a:pt x="7392" y="9575"/>
                </a:cubicBezTo>
                <a:cubicBezTo>
                  <a:pt x="7497" y="9557"/>
                  <a:pt x="7584" y="9550"/>
                  <a:pt x="7689" y="9550"/>
                </a:cubicBezTo>
              </a:path>
              <a:path w="4268" h="844">
                <a:moveTo>
                  <a:pt x="7491" y="9773"/>
                </a:moveTo>
                <a:cubicBezTo>
                  <a:pt x="7607" y="9765"/>
                  <a:pt x="7706" y="9711"/>
                  <a:pt x="7813" y="9699"/>
                </a:cubicBezTo>
                <a:cubicBezTo>
                  <a:pt x="7830" y="9699"/>
                  <a:pt x="7846" y="9699"/>
                  <a:pt x="7863" y="9699"/>
                </a:cubicBezTo>
              </a:path>
              <a:path w="4268" h="844">
                <a:moveTo>
                  <a:pt x="8607" y="9426"/>
                </a:moveTo>
                <a:cubicBezTo>
                  <a:pt x="8648" y="9278"/>
                  <a:pt x="8725" y="9287"/>
                  <a:pt x="8880" y="9277"/>
                </a:cubicBezTo>
                <a:cubicBezTo>
                  <a:pt x="8893" y="9537"/>
                  <a:pt x="8804" y="9683"/>
                  <a:pt x="8657" y="9897"/>
                </a:cubicBezTo>
                <a:cubicBezTo>
                  <a:pt x="8640" y="9922"/>
                  <a:pt x="8624" y="9946"/>
                  <a:pt x="8607" y="9971"/>
                </a:cubicBezTo>
                <a:cubicBezTo>
                  <a:pt x="8779" y="9984"/>
                  <a:pt x="8903" y="9881"/>
                  <a:pt x="9079" y="9847"/>
                </a:cubicBezTo>
                <a:cubicBezTo>
                  <a:pt x="9128" y="9847"/>
                  <a:pt x="9145" y="9847"/>
                  <a:pt x="9178" y="9847"/>
                </a:cubicBezTo>
              </a:path>
              <a:path w="4268" h="844">
                <a:moveTo>
                  <a:pt x="5655" y="9823"/>
                </a:moveTo>
                <a:cubicBezTo>
                  <a:pt x="5760" y="9911"/>
                  <a:pt x="5879" y="10000"/>
                  <a:pt x="6028" y="9996"/>
                </a:cubicBezTo>
                <a:cubicBezTo>
                  <a:pt x="6211" y="9992"/>
                  <a:pt x="6455" y="9890"/>
                  <a:pt x="6623" y="9823"/>
                </a:cubicBezTo>
                <a:cubicBezTo>
                  <a:pt x="6756" y="9770"/>
                  <a:pt x="6850" y="9723"/>
                  <a:pt x="6945" y="9624"/>
                </a:cubicBezTo>
                <a:cubicBezTo>
                  <a:pt x="7025" y="9541"/>
                  <a:pt x="7050" y="9489"/>
                  <a:pt x="7020" y="9376"/>
                </a:cubicBezTo>
                <a:cubicBezTo>
                  <a:pt x="6982" y="9232"/>
                  <a:pt x="6909" y="9216"/>
                  <a:pt x="6772" y="9178"/>
                </a:cubicBezTo>
                <a:cubicBezTo>
                  <a:pt x="6629" y="9138"/>
                  <a:pt x="6494" y="9148"/>
                  <a:pt x="6350" y="9178"/>
                </a:cubicBezTo>
                <a:cubicBezTo>
                  <a:pt x="6236" y="9202"/>
                  <a:pt x="6134" y="9202"/>
                  <a:pt x="6028" y="9252"/>
                </a:cubicBezTo>
                <a:cubicBezTo>
                  <a:pt x="5963" y="9283"/>
                  <a:pt x="5915" y="9285"/>
                  <a:pt x="5854" y="9327"/>
                </a:cubicBezTo>
                <a:cubicBezTo>
                  <a:pt x="5796" y="9367"/>
                  <a:pt x="5688" y="9407"/>
                  <a:pt x="5655" y="9475"/>
                </a:cubicBezTo>
                <a:cubicBezTo>
                  <a:pt x="5620" y="9547"/>
                  <a:pt x="5610" y="9621"/>
                  <a:pt x="5606" y="9699"/>
                </a:cubicBezTo>
                <a:cubicBezTo>
                  <a:pt x="5603" y="9771"/>
                  <a:pt x="5609" y="9837"/>
                  <a:pt x="5655" y="9897"/>
                </a:cubicBezTo>
                <a:cubicBezTo>
                  <a:pt x="5701" y="9957"/>
                  <a:pt x="5758" y="9984"/>
                  <a:pt x="5829" y="9996"/>
                </a:cubicBezTo>
                <a:cubicBezTo>
                  <a:pt x="5883" y="10005"/>
                  <a:pt x="5948" y="9996"/>
                  <a:pt x="6003" y="9996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2000" y="3894120"/>
            <a:ext cx="349200" cy="312840"/>
          </a:xfrm>
          <a:custGeom>
            <a:avLst/>
            <a:gdLst/>
            <a:ahLst/>
            <a:rect l="l" t="t" r="r" b="b"/>
            <a:pathLst>
              <a:path w="968" h="869">
                <a:moveTo>
                  <a:pt x="3398" y="11063"/>
                </a:moveTo>
                <a:cubicBezTo>
                  <a:pt x="3378" y="11209"/>
                  <a:pt x="3390" y="11357"/>
                  <a:pt x="3373" y="11509"/>
                </a:cubicBezTo>
                <a:cubicBezTo>
                  <a:pt x="3373" y="11526"/>
                  <a:pt x="3373" y="11542"/>
                  <a:pt x="3373" y="11559"/>
                </a:cubicBezTo>
              </a:path>
              <a:path w="968" h="869">
                <a:moveTo>
                  <a:pt x="3870" y="11063"/>
                </a:moveTo>
                <a:cubicBezTo>
                  <a:pt x="3794" y="11097"/>
                  <a:pt x="3705" y="11104"/>
                  <a:pt x="3671" y="11187"/>
                </a:cubicBezTo>
                <a:cubicBezTo>
                  <a:pt x="3659" y="11216"/>
                  <a:pt x="3671" y="11280"/>
                  <a:pt x="3671" y="11311"/>
                </a:cubicBezTo>
                <a:cubicBezTo>
                  <a:pt x="3692" y="11292"/>
                  <a:pt x="3870" y="11126"/>
                  <a:pt x="3870" y="11286"/>
                </a:cubicBezTo>
                <a:cubicBezTo>
                  <a:pt x="3870" y="11375"/>
                  <a:pt x="3798" y="11476"/>
                  <a:pt x="3721" y="11485"/>
                </a:cubicBezTo>
                <a:cubicBezTo>
                  <a:pt x="3704" y="11485"/>
                  <a:pt x="3688" y="11485"/>
                  <a:pt x="3671" y="11485"/>
                </a:cubicBezTo>
              </a:path>
              <a:path w="968" h="869">
                <a:moveTo>
                  <a:pt x="2977" y="11584"/>
                </a:moveTo>
                <a:cubicBezTo>
                  <a:pt x="3055" y="11619"/>
                  <a:pt x="3090" y="11630"/>
                  <a:pt x="3175" y="11633"/>
                </a:cubicBezTo>
                <a:cubicBezTo>
                  <a:pt x="3310" y="11638"/>
                  <a:pt x="3381" y="11578"/>
                  <a:pt x="3497" y="11534"/>
                </a:cubicBezTo>
                <a:cubicBezTo>
                  <a:pt x="3619" y="11488"/>
                  <a:pt x="3653" y="11441"/>
                  <a:pt x="3746" y="11361"/>
                </a:cubicBezTo>
                <a:cubicBezTo>
                  <a:pt x="3823" y="11295"/>
                  <a:pt x="3885" y="11247"/>
                  <a:pt x="3894" y="11137"/>
                </a:cubicBezTo>
                <a:cubicBezTo>
                  <a:pt x="3901" y="11050"/>
                  <a:pt x="3888" y="10973"/>
                  <a:pt x="3820" y="10914"/>
                </a:cubicBezTo>
                <a:cubicBezTo>
                  <a:pt x="3772" y="10872"/>
                  <a:pt x="3684" y="10825"/>
                  <a:pt x="3621" y="10815"/>
                </a:cubicBezTo>
                <a:cubicBezTo>
                  <a:pt x="3531" y="10801"/>
                  <a:pt x="3405" y="10806"/>
                  <a:pt x="3324" y="10840"/>
                </a:cubicBezTo>
                <a:cubicBezTo>
                  <a:pt x="3236" y="10876"/>
                  <a:pt x="3151" y="10931"/>
                  <a:pt x="3076" y="10988"/>
                </a:cubicBezTo>
                <a:cubicBezTo>
                  <a:pt x="2995" y="11050"/>
                  <a:pt x="2995" y="11074"/>
                  <a:pt x="2977" y="11162"/>
                </a:cubicBezTo>
                <a:cubicBezTo>
                  <a:pt x="2953" y="11283"/>
                  <a:pt x="2972" y="11349"/>
                  <a:pt x="3026" y="11460"/>
                </a:cubicBezTo>
                <a:cubicBezTo>
                  <a:pt x="3079" y="11569"/>
                  <a:pt x="3173" y="11660"/>
                  <a:pt x="3299" y="11683"/>
                </a:cubicBezTo>
                <a:cubicBezTo>
                  <a:pt x="3453" y="11712"/>
                  <a:pt x="3522" y="11655"/>
                  <a:pt x="3646" y="11584"/>
                </a:cubicBezTo>
                <a:cubicBezTo>
                  <a:pt x="3758" y="11520"/>
                  <a:pt x="3813" y="11478"/>
                  <a:pt x="3894" y="11385"/>
                </a:cubicBezTo>
                <a:cubicBezTo>
                  <a:pt x="3923" y="11357"/>
                  <a:pt x="3931" y="11344"/>
                  <a:pt x="3919" y="11311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25760" y="3946680"/>
            <a:ext cx="463320" cy="179280"/>
          </a:xfrm>
          <a:custGeom>
            <a:avLst/>
            <a:gdLst/>
            <a:ahLst/>
            <a:rect l="l" t="t" r="r" b="b"/>
            <a:pathLst>
              <a:path w="1291" h="497">
                <a:moveTo>
                  <a:pt x="4564" y="11261"/>
                </a:moveTo>
                <a:cubicBezTo>
                  <a:pt x="4547" y="11261"/>
                  <a:pt x="4531" y="11261"/>
                  <a:pt x="4514" y="11261"/>
                </a:cubicBezTo>
                <a:cubicBezTo>
                  <a:pt x="4586" y="11240"/>
                  <a:pt x="4665" y="11225"/>
                  <a:pt x="4738" y="11212"/>
                </a:cubicBezTo>
                <a:cubicBezTo>
                  <a:pt x="4815" y="11198"/>
                  <a:pt x="4866" y="11250"/>
                  <a:pt x="4936" y="11261"/>
                </a:cubicBezTo>
                <a:cubicBezTo>
                  <a:pt x="4994" y="11261"/>
                  <a:pt x="5002" y="11261"/>
                  <a:pt x="5035" y="11261"/>
                </a:cubicBezTo>
              </a:path>
              <a:path w="1291" h="497">
                <a:moveTo>
                  <a:pt x="5779" y="11063"/>
                </a:moveTo>
                <a:cubicBezTo>
                  <a:pt x="5718" y="11053"/>
                  <a:pt x="5637" y="11007"/>
                  <a:pt x="5581" y="11063"/>
                </a:cubicBezTo>
                <a:cubicBezTo>
                  <a:pt x="5543" y="11119"/>
                  <a:pt x="5526" y="11122"/>
                  <a:pt x="5531" y="11162"/>
                </a:cubicBezTo>
                <a:cubicBezTo>
                  <a:pt x="5600" y="11197"/>
                  <a:pt x="5775" y="11220"/>
                  <a:pt x="5804" y="11311"/>
                </a:cubicBezTo>
                <a:cubicBezTo>
                  <a:pt x="5837" y="11414"/>
                  <a:pt x="5796" y="11422"/>
                  <a:pt x="5730" y="11460"/>
                </a:cubicBezTo>
                <a:cubicBezTo>
                  <a:pt x="5686" y="11416"/>
                  <a:pt x="5629" y="11355"/>
                  <a:pt x="5631" y="11286"/>
                </a:cubicBezTo>
                <a:cubicBezTo>
                  <a:pt x="5633" y="11224"/>
                  <a:pt x="5739" y="11138"/>
                  <a:pt x="5779" y="11088"/>
                </a:cubicBezTo>
                <a:cubicBezTo>
                  <a:pt x="5834" y="11020"/>
                  <a:pt x="5793" y="10999"/>
                  <a:pt x="5730" y="10964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73200" y="4054320"/>
            <a:ext cx="108000" cy="81000"/>
          </a:xfrm>
          <a:custGeom>
            <a:avLst/>
            <a:gdLst/>
            <a:ahLst/>
            <a:rect l="l" t="t" r="r" b="b"/>
            <a:pathLst>
              <a:path w="299" h="225">
                <a:moveTo>
                  <a:pt x="6871" y="11286"/>
                </a:moveTo>
                <a:cubicBezTo>
                  <a:pt x="6951" y="11286"/>
                  <a:pt x="7017" y="11274"/>
                  <a:pt x="7094" y="11261"/>
                </a:cubicBezTo>
              </a:path>
              <a:path w="299" h="225">
                <a:moveTo>
                  <a:pt x="6945" y="11485"/>
                </a:moveTo>
                <a:cubicBezTo>
                  <a:pt x="7020" y="11485"/>
                  <a:pt x="7094" y="11485"/>
                  <a:pt x="7169" y="11485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40040" y="3983040"/>
            <a:ext cx="152280" cy="241200"/>
          </a:xfrm>
          <a:custGeom>
            <a:avLst/>
            <a:gdLst/>
            <a:ahLst/>
            <a:rect l="l" t="t" r="r" b="b"/>
            <a:pathLst>
              <a:path w="423" h="671">
                <a:moveTo>
                  <a:pt x="7888" y="11137"/>
                </a:moveTo>
                <a:cubicBezTo>
                  <a:pt x="8032" y="11101"/>
                  <a:pt x="8164" y="11084"/>
                  <a:pt x="8310" y="11063"/>
                </a:cubicBezTo>
                <a:cubicBezTo>
                  <a:pt x="8263" y="11250"/>
                  <a:pt x="8214" y="11444"/>
                  <a:pt x="8161" y="11633"/>
                </a:cubicBezTo>
                <a:cubicBezTo>
                  <a:pt x="8142" y="11691"/>
                  <a:pt x="8133" y="11698"/>
                  <a:pt x="8136" y="11733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08080" y="5010120"/>
            <a:ext cx="588960" cy="554040"/>
          </a:xfrm>
          <a:custGeom>
            <a:avLst/>
            <a:gdLst/>
            <a:ahLst/>
            <a:rect l="l" t="t" r="r" b="b"/>
            <a:pathLst>
              <a:path w="1638" h="1539">
                <a:moveTo>
                  <a:pt x="3597" y="14610"/>
                </a:moveTo>
                <a:cubicBezTo>
                  <a:pt x="3544" y="14649"/>
                  <a:pt x="3495" y="14939"/>
                  <a:pt x="3473" y="15081"/>
                </a:cubicBezTo>
                <a:cubicBezTo>
                  <a:pt x="3473" y="15089"/>
                  <a:pt x="3473" y="15098"/>
                  <a:pt x="3473" y="15106"/>
                </a:cubicBezTo>
              </a:path>
              <a:path w="1638" h="1539">
                <a:moveTo>
                  <a:pt x="3894" y="14635"/>
                </a:moveTo>
                <a:cubicBezTo>
                  <a:pt x="3991" y="14643"/>
                  <a:pt x="4116" y="14637"/>
                  <a:pt x="4068" y="14784"/>
                </a:cubicBezTo>
                <a:cubicBezTo>
                  <a:pt x="4035" y="14884"/>
                  <a:pt x="3922" y="14947"/>
                  <a:pt x="3845" y="15007"/>
                </a:cubicBezTo>
                <a:cubicBezTo>
                  <a:pt x="3925" y="15074"/>
                  <a:pt x="4045" y="15072"/>
                  <a:pt x="4167" y="15081"/>
                </a:cubicBezTo>
              </a:path>
              <a:path w="1638" h="1539">
                <a:moveTo>
                  <a:pt x="4118" y="13915"/>
                </a:moveTo>
                <a:cubicBezTo>
                  <a:pt x="4110" y="13932"/>
                  <a:pt x="4101" y="13948"/>
                  <a:pt x="4093" y="13965"/>
                </a:cubicBezTo>
              </a:path>
              <a:path w="1638" h="1539">
                <a:moveTo>
                  <a:pt x="3522" y="14288"/>
                </a:moveTo>
                <a:lnTo>
                  <a:pt x="3522" y="14288"/>
                </a:lnTo>
              </a:path>
              <a:path w="1638" h="1539">
                <a:moveTo>
                  <a:pt x="4564" y="14610"/>
                </a:moveTo>
                <a:lnTo>
                  <a:pt x="4564" y="14610"/>
                </a:lnTo>
              </a:path>
              <a:path w="1638" h="1539">
                <a:moveTo>
                  <a:pt x="4490" y="14511"/>
                </a:moveTo>
                <a:cubicBezTo>
                  <a:pt x="4539" y="14386"/>
                  <a:pt x="4556" y="14259"/>
                  <a:pt x="4465" y="14139"/>
                </a:cubicBezTo>
                <a:cubicBezTo>
                  <a:pt x="4375" y="14020"/>
                  <a:pt x="4203" y="13993"/>
                  <a:pt x="4068" y="13965"/>
                </a:cubicBezTo>
                <a:cubicBezTo>
                  <a:pt x="3907" y="13932"/>
                  <a:pt x="3815" y="13933"/>
                  <a:pt x="3671" y="14015"/>
                </a:cubicBezTo>
                <a:cubicBezTo>
                  <a:pt x="3549" y="14084"/>
                  <a:pt x="3456" y="14200"/>
                  <a:pt x="3349" y="14288"/>
                </a:cubicBezTo>
                <a:cubicBezTo>
                  <a:pt x="3215" y="14398"/>
                  <a:pt x="3102" y="14447"/>
                  <a:pt x="3076" y="14635"/>
                </a:cubicBezTo>
                <a:cubicBezTo>
                  <a:pt x="3050" y="14824"/>
                  <a:pt x="3127" y="15064"/>
                  <a:pt x="3249" y="15205"/>
                </a:cubicBezTo>
                <a:cubicBezTo>
                  <a:pt x="3397" y="15376"/>
                  <a:pt x="3657" y="15438"/>
                  <a:pt x="3870" y="15453"/>
                </a:cubicBezTo>
                <a:cubicBezTo>
                  <a:pt x="4058" y="15466"/>
                  <a:pt x="4304" y="15442"/>
                  <a:pt x="4465" y="15329"/>
                </a:cubicBezTo>
                <a:cubicBezTo>
                  <a:pt x="4633" y="15211"/>
                  <a:pt x="4724" y="15034"/>
                  <a:pt x="4713" y="14833"/>
                </a:cubicBezTo>
                <a:cubicBezTo>
                  <a:pt x="4704" y="14674"/>
                  <a:pt x="4630" y="14498"/>
                  <a:pt x="4514" y="14387"/>
                </a:cubicBezTo>
                <a:cubicBezTo>
                  <a:pt x="4489" y="14370"/>
                  <a:pt x="4465" y="14354"/>
                  <a:pt x="4440" y="14337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43080" y="5224320"/>
            <a:ext cx="285840" cy="223920"/>
          </a:xfrm>
          <a:custGeom>
            <a:avLst/>
            <a:gdLst/>
            <a:ahLst/>
            <a:rect l="l" t="t" r="r" b="b"/>
            <a:pathLst>
              <a:path w="795" h="621">
                <a:moveTo>
                  <a:pt x="6152" y="14511"/>
                </a:moveTo>
                <a:cubicBezTo>
                  <a:pt x="6074" y="14679"/>
                  <a:pt x="6027" y="14853"/>
                  <a:pt x="5978" y="15032"/>
                </a:cubicBezTo>
                <a:cubicBezTo>
                  <a:pt x="5970" y="15065"/>
                  <a:pt x="5961" y="15098"/>
                  <a:pt x="5953" y="15131"/>
                </a:cubicBezTo>
              </a:path>
              <a:path w="795" h="621">
                <a:moveTo>
                  <a:pt x="6424" y="14660"/>
                </a:moveTo>
                <a:cubicBezTo>
                  <a:pt x="6462" y="14802"/>
                  <a:pt x="6478" y="14800"/>
                  <a:pt x="6424" y="14932"/>
                </a:cubicBezTo>
                <a:cubicBezTo>
                  <a:pt x="6537" y="14947"/>
                  <a:pt x="6633" y="14957"/>
                  <a:pt x="6747" y="14957"/>
                </a:cubicBezTo>
              </a:path>
              <a:path w="795" h="621">
                <a:moveTo>
                  <a:pt x="6747" y="14585"/>
                </a:moveTo>
                <a:cubicBezTo>
                  <a:pt x="6718" y="14768"/>
                  <a:pt x="6675" y="14951"/>
                  <a:pt x="6648" y="15131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77920" y="5054760"/>
            <a:ext cx="3367080" cy="1303200"/>
          </a:xfrm>
          <a:custGeom>
            <a:avLst/>
            <a:gdLst/>
            <a:ahLst/>
            <a:rect l="l" t="t" r="r" b="b"/>
            <a:pathLst>
              <a:path w="9353" h="3623">
                <a:moveTo>
                  <a:pt x="8905" y="14908"/>
                </a:moveTo>
                <a:lnTo>
                  <a:pt x="8905" y="14908"/>
                </a:lnTo>
              </a:path>
              <a:path w="9353" h="3623">
                <a:moveTo>
                  <a:pt x="9103" y="14660"/>
                </a:moveTo>
                <a:cubicBezTo>
                  <a:pt x="9103" y="14627"/>
                  <a:pt x="9103" y="14610"/>
                  <a:pt x="9103" y="14585"/>
                </a:cubicBezTo>
                <a:cubicBezTo>
                  <a:pt x="9076" y="14762"/>
                  <a:pt x="9035" y="14935"/>
                  <a:pt x="9004" y="15106"/>
                </a:cubicBezTo>
              </a:path>
              <a:path w="9353" h="3623">
                <a:moveTo>
                  <a:pt x="9575" y="14709"/>
                </a:moveTo>
                <a:cubicBezTo>
                  <a:pt x="9422" y="14811"/>
                  <a:pt x="9397" y="14920"/>
                  <a:pt x="9376" y="15106"/>
                </a:cubicBezTo>
                <a:cubicBezTo>
                  <a:pt x="9560" y="15094"/>
                  <a:pt x="9811" y="15039"/>
                  <a:pt x="9773" y="14784"/>
                </a:cubicBezTo>
                <a:cubicBezTo>
                  <a:pt x="9692" y="14702"/>
                  <a:pt x="9659" y="14674"/>
                  <a:pt x="9575" y="14660"/>
                </a:cubicBezTo>
              </a:path>
              <a:path w="9353" h="3623">
                <a:moveTo>
                  <a:pt x="11931" y="14684"/>
                </a:moveTo>
                <a:cubicBezTo>
                  <a:pt x="12039" y="14793"/>
                  <a:pt x="12016" y="14620"/>
                  <a:pt x="12005" y="14536"/>
                </a:cubicBezTo>
                <a:cubicBezTo>
                  <a:pt x="11857" y="14502"/>
                  <a:pt x="11749" y="14513"/>
                  <a:pt x="11733" y="14709"/>
                </a:cubicBezTo>
                <a:cubicBezTo>
                  <a:pt x="11713" y="14959"/>
                  <a:pt x="12000" y="14705"/>
                  <a:pt x="12055" y="14660"/>
                </a:cubicBezTo>
                <a:cubicBezTo>
                  <a:pt x="12063" y="14643"/>
                  <a:pt x="12072" y="14627"/>
                  <a:pt x="12080" y="14610"/>
                </a:cubicBezTo>
                <a:cubicBezTo>
                  <a:pt x="12006" y="14791"/>
                  <a:pt x="11934" y="14967"/>
                  <a:pt x="11881" y="15156"/>
                </a:cubicBezTo>
              </a:path>
              <a:path w="9353" h="3623">
                <a:moveTo>
                  <a:pt x="9723" y="14387"/>
                </a:moveTo>
                <a:cubicBezTo>
                  <a:pt x="9711" y="14249"/>
                  <a:pt x="9658" y="14220"/>
                  <a:pt x="9525" y="14163"/>
                </a:cubicBezTo>
                <a:cubicBezTo>
                  <a:pt x="9376" y="14099"/>
                  <a:pt x="9187" y="14097"/>
                  <a:pt x="9029" y="14114"/>
                </a:cubicBezTo>
                <a:cubicBezTo>
                  <a:pt x="8919" y="14126"/>
                  <a:pt x="8802" y="14182"/>
                  <a:pt x="8731" y="14263"/>
                </a:cubicBezTo>
                <a:cubicBezTo>
                  <a:pt x="8628" y="14380"/>
                  <a:pt x="8621" y="14541"/>
                  <a:pt x="8582" y="14684"/>
                </a:cubicBezTo>
                <a:cubicBezTo>
                  <a:pt x="8554" y="14786"/>
                  <a:pt x="8521" y="14925"/>
                  <a:pt x="8533" y="15032"/>
                </a:cubicBezTo>
                <a:cubicBezTo>
                  <a:pt x="8548" y="15158"/>
                  <a:pt x="8593" y="15380"/>
                  <a:pt x="8682" y="15478"/>
                </a:cubicBezTo>
                <a:cubicBezTo>
                  <a:pt x="8731" y="15532"/>
                  <a:pt x="8883" y="15602"/>
                  <a:pt x="8954" y="15627"/>
                </a:cubicBezTo>
                <a:cubicBezTo>
                  <a:pt x="9103" y="15680"/>
                  <a:pt x="9246" y="15677"/>
                  <a:pt x="9401" y="15677"/>
                </a:cubicBezTo>
                <a:cubicBezTo>
                  <a:pt x="9531" y="15677"/>
                  <a:pt x="9650" y="15677"/>
                  <a:pt x="9773" y="15627"/>
                </a:cubicBezTo>
                <a:cubicBezTo>
                  <a:pt x="9885" y="15582"/>
                  <a:pt x="10033" y="15485"/>
                  <a:pt x="10096" y="15379"/>
                </a:cubicBezTo>
                <a:cubicBezTo>
                  <a:pt x="10177" y="15242"/>
                  <a:pt x="10206" y="15087"/>
                  <a:pt x="10220" y="14932"/>
                </a:cubicBezTo>
                <a:cubicBezTo>
                  <a:pt x="10231" y="14808"/>
                  <a:pt x="10163" y="14696"/>
                  <a:pt x="10120" y="14585"/>
                </a:cubicBezTo>
                <a:cubicBezTo>
                  <a:pt x="10077" y="14473"/>
                  <a:pt x="9990" y="14368"/>
                  <a:pt x="9897" y="14288"/>
                </a:cubicBezTo>
                <a:cubicBezTo>
                  <a:pt x="9833" y="14233"/>
                  <a:pt x="9723" y="14193"/>
                  <a:pt x="9649" y="14163"/>
                </a:cubicBezTo>
                <a:cubicBezTo>
                  <a:pt x="9588" y="14139"/>
                  <a:pt x="9534" y="14112"/>
                  <a:pt x="9475" y="14089"/>
                </a:cubicBezTo>
              </a:path>
              <a:path w="9353" h="3623">
                <a:moveTo>
                  <a:pt x="4614" y="17661"/>
                </a:moveTo>
                <a:lnTo>
                  <a:pt x="4614" y="17661"/>
                </a:lnTo>
              </a:path>
              <a:path w="9353" h="3623">
                <a:moveTo>
                  <a:pt x="5755" y="16446"/>
                </a:moveTo>
                <a:lnTo>
                  <a:pt x="5755" y="16446"/>
                </a:lnTo>
              </a:path>
              <a:path w="9353" h="3623">
                <a:moveTo>
                  <a:pt x="3994" y="17413"/>
                </a:moveTo>
                <a:cubicBezTo>
                  <a:pt x="3994" y="17350"/>
                  <a:pt x="3997" y="17322"/>
                  <a:pt x="4018" y="17264"/>
                </a:cubicBezTo>
                <a:cubicBezTo>
                  <a:pt x="4060" y="17402"/>
                  <a:pt x="4073" y="17447"/>
                  <a:pt x="4043" y="17587"/>
                </a:cubicBezTo>
              </a:path>
              <a:path w="9353" h="3623">
                <a:moveTo>
                  <a:pt x="3274" y="15677"/>
                </a:moveTo>
                <a:lnTo>
                  <a:pt x="3274" y="15677"/>
                </a:lnTo>
              </a:path>
              <a:path w="9353" h="3623">
                <a:moveTo>
                  <a:pt x="3820" y="16545"/>
                </a:moveTo>
                <a:cubicBezTo>
                  <a:pt x="3939" y="16522"/>
                  <a:pt x="4045" y="16520"/>
                  <a:pt x="4167" y="16520"/>
                </a:cubicBezTo>
                <a:cubicBezTo>
                  <a:pt x="4175" y="16520"/>
                  <a:pt x="4184" y="16520"/>
                  <a:pt x="4192" y="16520"/>
                </a:cubicBezTo>
              </a:path>
              <a:path w="9353" h="3623">
                <a:moveTo>
                  <a:pt x="4539" y="16247"/>
                </a:moveTo>
                <a:cubicBezTo>
                  <a:pt x="4674" y="16223"/>
                  <a:pt x="4715" y="16220"/>
                  <a:pt x="4837" y="16272"/>
                </a:cubicBezTo>
                <a:cubicBezTo>
                  <a:pt x="4725" y="16535"/>
                  <a:pt x="4611" y="16664"/>
                  <a:pt x="4390" y="16842"/>
                </a:cubicBezTo>
                <a:cubicBezTo>
                  <a:pt x="4572" y="16829"/>
                  <a:pt x="4732" y="16774"/>
                  <a:pt x="4911" y="16743"/>
                </a:cubicBezTo>
                <a:cubicBezTo>
                  <a:pt x="4919" y="16743"/>
                  <a:pt x="4928" y="16743"/>
                  <a:pt x="4936" y="16743"/>
                </a:cubicBezTo>
              </a:path>
              <a:path w="9353" h="3623">
                <a:moveTo>
                  <a:pt x="5135" y="16297"/>
                </a:moveTo>
                <a:cubicBezTo>
                  <a:pt x="5257" y="16266"/>
                  <a:pt x="5311" y="16257"/>
                  <a:pt x="5432" y="16272"/>
                </a:cubicBezTo>
                <a:cubicBezTo>
                  <a:pt x="5521" y="16404"/>
                  <a:pt x="5465" y="16507"/>
                  <a:pt x="5358" y="16619"/>
                </a:cubicBezTo>
                <a:cubicBezTo>
                  <a:pt x="5222" y="16733"/>
                  <a:pt x="5186" y="16765"/>
                  <a:pt x="5085" y="16818"/>
                </a:cubicBezTo>
                <a:cubicBezTo>
                  <a:pt x="5288" y="16794"/>
                  <a:pt x="5496" y="16718"/>
                  <a:pt x="5705" y="16743"/>
                </a:cubicBezTo>
                <a:cubicBezTo>
                  <a:pt x="5722" y="16751"/>
                  <a:pt x="5738" y="16760"/>
                  <a:pt x="5755" y="16768"/>
                </a:cubicBezTo>
              </a:path>
              <a:path w="9353" h="3623">
                <a:moveTo>
                  <a:pt x="5507" y="14784"/>
                </a:moveTo>
                <a:cubicBezTo>
                  <a:pt x="5591" y="14934"/>
                  <a:pt x="5681" y="15107"/>
                  <a:pt x="5804" y="15230"/>
                </a:cubicBezTo>
                <a:cubicBezTo>
                  <a:pt x="6068" y="15494"/>
                  <a:pt x="6335" y="15439"/>
                  <a:pt x="6672" y="15404"/>
                </a:cubicBezTo>
                <a:cubicBezTo>
                  <a:pt x="6961" y="15374"/>
                  <a:pt x="7181" y="15279"/>
                  <a:pt x="7441" y="15156"/>
                </a:cubicBezTo>
                <a:cubicBezTo>
                  <a:pt x="7648" y="15058"/>
                  <a:pt x="7744" y="14903"/>
                  <a:pt x="7689" y="14660"/>
                </a:cubicBezTo>
                <a:cubicBezTo>
                  <a:pt x="7620" y="14353"/>
                  <a:pt x="7370" y="14244"/>
                  <a:pt x="7094" y="14188"/>
                </a:cubicBezTo>
                <a:cubicBezTo>
                  <a:pt x="6870" y="14142"/>
                  <a:pt x="6625" y="14184"/>
                  <a:pt x="6400" y="14213"/>
                </a:cubicBezTo>
                <a:cubicBezTo>
                  <a:pt x="6163" y="14244"/>
                  <a:pt x="5965" y="14304"/>
                  <a:pt x="5779" y="14461"/>
                </a:cubicBezTo>
                <a:cubicBezTo>
                  <a:pt x="5632" y="14585"/>
                  <a:pt x="5573" y="14719"/>
                  <a:pt x="5556" y="14908"/>
                </a:cubicBezTo>
                <a:cubicBezTo>
                  <a:pt x="5535" y="15146"/>
                  <a:pt x="5679" y="15247"/>
                  <a:pt x="5904" y="15280"/>
                </a:cubicBezTo>
                <a:cubicBezTo>
                  <a:pt x="6011" y="15296"/>
                  <a:pt x="6136" y="15266"/>
                  <a:pt x="6226" y="15255"/>
                </a:cubicBezTo>
              </a:path>
              <a:path w="9353" h="3623">
                <a:moveTo>
                  <a:pt x="7441" y="14908"/>
                </a:moveTo>
                <a:cubicBezTo>
                  <a:pt x="7515" y="14914"/>
                  <a:pt x="7572" y="14916"/>
                  <a:pt x="7640" y="14957"/>
                </a:cubicBezTo>
                <a:cubicBezTo>
                  <a:pt x="7790" y="15047"/>
                  <a:pt x="7880" y="15213"/>
                  <a:pt x="8012" y="15329"/>
                </a:cubicBezTo>
                <a:cubicBezTo>
                  <a:pt x="8201" y="15495"/>
                  <a:pt x="8457" y="15583"/>
                  <a:pt x="8706" y="15602"/>
                </a:cubicBezTo>
                <a:cubicBezTo>
                  <a:pt x="8982" y="15624"/>
                  <a:pt x="9276" y="15609"/>
                  <a:pt x="9550" y="15577"/>
                </a:cubicBezTo>
                <a:cubicBezTo>
                  <a:pt x="9879" y="15539"/>
                  <a:pt x="10223" y="15519"/>
                  <a:pt x="10542" y="15429"/>
                </a:cubicBezTo>
                <a:cubicBezTo>
                  <a:pt x="10719" y="15379"/>
                  <a:pt x="10894" y="15268"/>
                  <a:pt x="11038" y="15205"/>
                </a:cubicBezTo>
                <a:cubicBezTo>
                  <a:pt x="11095" y="15180"/>
                  <a:pt x="11108" y="15186"/>
                  <a:pt x="11162" y="15156"/>
                </a:cubicBezTo>
              </a:path>
              <a:path w="9353" h="3623">
                <a:moveTo>
                  <a:pt x="11038" y="14932"/>
                </a:moveTo>
                <a:cubicBezTo>
                  <a:pt x="11045" y="15058"/>
                  <a:pt x="11034" y="15228"/>
                  <a:pt x="11187" y="15280"/>
                </a:cubicBezTo>
                <a:cubicBezTo>
                  <a:pt x="11373" y="15343"/>
                  <a:pt x="11618" y="15306"/>
                  <a:pt x="11807" y="15280"/>
                </a:cubicBezTo>
                <a:cubicBezTo>
                  <a:pt x="11998" y="15253"/>
                  <a:pt x="12199" y="15176"/>
                  <a:pt x="12353" y="15056"/>
                </a:cubicBezTo>
                <a:cubicBezTo>
                  <a:pt x="12500" y="14941"/>
                  <a:pt x="12626" y="14754"/>
                  <a:pt x="12626" y="14560"/>
                </a:cubicBezTo>
                <a:cubicBezTo>
                  <a:pt x="12626" y="14320"/>
                  <a:pt x="12482" y="14135"/>
                  <a:pt x="12254" y="14064"/>
                </a:cubicBezTo>
                <a:cubicBezTo>
                  <a:pt x="12020" y="13991"/>
                  <a:pt x="11723" y="14030"/>
                  <a:pt x="11509" y="14139"/>
                </a:cubicBezTo>
                <a:cubicBezTo>
                  <a:pt x="11266" y="14263"/>
                  <a:pt x="11050" y="14488"/>
                  <a:pt x="10988" y="14759"/>
                </a:cubicBezTo>
                <a:cubicBezTo>
                  <a:pt x="10936" y="14986"/>
                  <a:pt x="11064" y="15100"/>
                  <a:pt x="11237" y="15180"/>
                </a:cubicBezTo>
                <a:cubicBezTo>
                  <a:pt x="11253" y="15188"/>
                  <a:pt x="11270" y="15197"/>
                  <a:pt x="11286" y="15205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97040" y="5599080"/>
            <a:ext cx="1768320" cy="608040"/>
          </a:xfrm>
          <a:custGeom>
            <a:avLst/>
            <a:gdLst/>
            <a:ahLst/>
            <a:rect l="l" t="t" r="r" b="b"/>
            <a:pathLst>
              <a:path w="4912" h="1687">
                <a:moveTo>
                  <a:pt x="7813" y="16694"/>
                </a:moveTo>
                <a:lnTo>
                  <a:pt x="7813" y="16694"/>
                </a:lnTo>
              </a:path>
              <a:path w="4912" h="1687">
                <a:moveTo>
                  <a:pt x="6201" y="16446"/>
                </a:moveTo>
                <a:cubicBezTo>
                  <a:pt x="6239" y="16585"/>
                  <a:pt x="6266" y="16723"/>
                  <a:pt x="6276" y="16867"/>
                </a:cubicBezTo>
              </a:path>
              <a:path w="4912" h="1687">
                <a:moveTo>
                  <a:pt x="6077" y="16619"/>
                </a:moveTo>
                <a:cubicBezTo>
                  <a:pt x="6234" y="16605"/>
                  <a:pt x="6392" y="16573"/>
                  <a:pt x="6548" y="16545"/>
                </a:cubicBezTo>
              </a:path>
              <a:path w="4912" h="1687">
                <a:moveTo>
                  <a:pt x="7020" y="16247"/>
                </a:moveTo>
                <a:cubicBezTo>
                  <a:pt x="6972" y="16357"/>
                  <a:pt x="7037" y="16304"/>
                  <a:pt x="7144" y="16297"/>
                </a:cubicBezTo>
                <a:cubicBezTo>
                  <a:pt x="7204" y="16526"/>
                  <a:pt x="7151" y="16748"/>
                  <a:pt x="6871" y="16818"/>
                </a:cubicBezTo>
                <a:cubicBezTo>
                  <a:pt x="6838" y="16810"/>
                  <a:pt x="6805" y="16801"/>
                  <a:pt x="6772" y="16793"/>
                </a:cubicBezTo>
                <a:cubicBezTo>
                  <a:pt x="6758" y="16635"/>
                  <a:pt x="6862" y="16542"/>
                  <a:pt x="7045" y="16570"/>
                </a:cubicBezTo>
                <a:cubicBezTo>
                  <a:pt x="7215" y="16596"/>
                  <a:pt x="7219" y="16686"/>
                  <a:pt x="7243" y="16818"/>
                </a:cubicBezTo>
              </a:path>
              <a:path w="4912" h="1687">
                <a:moveTo>
                  <a:pt x="7491" y="16247"/>
                </a:moveTo>
                <a:cubicBezTo>
                  <a:pt x="7553" y="16208"/>
                  <a:pt x="7799" y="16042"/>
                  <a:pt x="7764" y="16272"/>
                </a:cubicBezTo>
                <a:cubicBezTo>
                  <a:pt x="7712" y="16375"/>
                  <a:pt x="7692" y="16411"/>
                  <a:pt x="7615" y="16446"/>
                </a:cubicBezTo>
                <a:cubicBezTo>
                  <a:pt x="7598" y="16454"/>
                  <a:pt x="7582" y="16462"/>
                  <a:pt x="7565" y="16470"/>
                </a:cubicBezTo>
                <a:cubicBezTo>
                  <a:pt x="7631" y="16385"/>
                  <a:pt x="7856" y="16247"/>
                  <a:pt x="7838" y="16495"/>
                </a:cubicBezTo>
                <a:cubicBezTo>
                  <a:pt x="7826" y="16663"/>
                  <a:pt x="7697" y="16719"/>
                  <a:pt x="7565" y="16694"/>
                </a:cubicBezTo>
              </a:path>
              <a:path w="4912" h="1687">
                <a:moveTo>
                  <a:pt x="6003" y="15974"/>
                </a:moveTo>
                <a:cubicBezTo>
                  <a:pt x="5987" y="15912"/>
                  <a:pt x="6119" y="15884"/>
                  <a:pt x="6201" y="15875"/>
                </a:cubicBezTo>
                <a:cubicBezTo>
                  <a:pt x="6275" y="15875"/>
                  <a:pt x="6284" y="15875"/>
                  <a:pt x="6325" y="15875"/>
                </a:cubicBezTo>
              </a:path>
              <a:path w="4912" h="1687">
                <a:moveTo>
                  <a:pt x="4936" y="15602"/>
                </a:moveTo>
                <a:cubicBezTo>
                  <a:pt x="4904" y="15602"/>
                  <a:pt x="4966" y="15616"/>
                  <a:pt x="4911" y="15701"/>
                </a:cubicBezTo>
                <a:cubicBezTo>
                  <a:pt x="4864" y="15774"/>
                  <a:pt x="4774" y="15838"/>
                  <a:pt x="4713" y="15900"/>
                </a:cubicBezTo>
                <a:cubicBezTo>
                  <a:pt x="4796" y="15880"/>
                  <a:pt x="4877" y="15861"/>
                  <a:pt x="4961" y="15850"/>
                </a:cubicBezTo>
              </a:path>
              <a:path w="4912" h="1687">
                <a:moveTo>
                  <a:pt x="5085" y="15652"/>
                </a:moveTo>
                <a:cubicBezTo>
                  <a:pt x="5174" y="15629"/>
                  <a:pt x="5198" y="15623"/>
                  <a:pt x="5283" y="15652"/>
                </a:cubicBezTo>
                <a:cubicBezTo>
                  <a:pt x="5260" y="15769"/>
                  <a:pt x="5199" y="15828"/>
                  <a:pt x="5135" y="15925"/>
                </a:cubicBezTo>
                <a:cubicBezTo>
                  <a:pt x="5231" y="15925"/>
                  <a:pt x="5247" y="15919"/>
                  <a:pt x="5333" y="15875"/>
                </a:cubicBezTo>
              </a:path>
              <a:path w="4912" h="1687">
                <a:moveTo>
                  <a:pt x="4738" y="15726"/>
                </a:moveTo>
                <a:cubicBezTo>
                  <a:pt x="4795" y="15668"/>
                  <a:pt x="4853" y="15611"/>
                  <a:pt x="4911" y="15553"/>
                </a:cubicBezTo>
              </a:path>
              <a:path w="4912" h="1687">
                <a:moveTo>
                  <a:pt x="6672" y="15701"/>
                </a:moveTo>
                <a:cubicBezTo>
                  <a:pt x="6768" y="15654"/>
                  <a:pt x="6798" y="15637"/>
                  <a:pt x="6871" y="15652"/>
                </a:cubicBezTo>
                <a:cubicBezTo>
                  <a:pt x="6848" y="15814"/>
                  <a:pt x="6718" y="15831"/>
                  <a:pt x="6672" y="15949"/>
                </a:cubicBezTo>
                <a:cubicBezTo>
                  <a:pt x="6645" y="16020"/>
                  <a:pt x="6821" y="15931"/>
                  <a:pt x="6896" y="15925"/>
                </a:cubicBezTo>
              </a:path>
              <a:path w="4912" h="1687">
                <a:moveTo>
                  <a:pt x="7144" y="15627"/>
                </a:moveTo>
                <a:cubicBezTo>
                  <a:pt x="7346" y="15559"/>
                  <a:pt x="7226" y="15679"/>
                  <a:pt x="7144" y="15776"/>
                </a:cubicBezTo>
                <a:cubicBezTo>
                  <a:pt x="7204" y="15748"/>
                  <a:pt x="7441" y="15620"/>
                  <a:pt x="7417" y="15801"/>
                </a:cubicBezTo>
                <a:cubicBezTo>
                  <a:pt x="7398" y="15945"/>
                  <a:pt x="7269" y="15967"/>
                  <a:pt x="7169" y="15925"/>
                </a:cubicBezTo>
              </a:path>
              <a:path w="4912" h="1687">
                <a:moveTo>
                  <a:pt x="7640" y="16818"/>
                </a:moveTo>
                <a:cubicBezTo>
                  <a:pt x="7640" y="16862"/>
                  <a:pt x="7643" y="16876"/>
                  <a:pt x="7615" y="16892"/>
                </a:cubicBezTo>
              </a:path>
              <a:path w="4912" h="1687">
                <a:moveTo>
                  <a:pt x="7516" y="17041"/>
                </a:moveTo>
                <a:cubicBezTo>
                  <a:pt x="7686" y="16998"/>
                  <a:pt x="7862" y="16978"/>
                  <a:pt x="8037" y="16942"/>
                </a:cubicBezTo>
                <a:cubicBezTo>
                  <a:pt x="8277" y="16893"/>
                  <a:pt x="8521" y="16785"/>
                  <a:pt x="8682" y="16594"/>
                </a:cubicBezTo>
                <a:cubicBezTo>
                  <a:pt x="8826" y="16422"/>
                  <a:pt x="8743" y="16138"/>
                  <a:pt x="8533" y="16073"/>
                </a:cubicBezTo>
                <a:cubicBezTo>
                  <a:pt x="8314" y="16005"/>
                  <a:pt x="7944" y="16042"/>
                  <a:pt x="7714" y="16049"/>
                </a:cubicBezTo>
                <a:cubicBezTo>
                  <a:pt x="7488" y="16056"/>
                  <a:pt x="7201" y="16107"/>
                  <a:pt x="6995" y="16197"/>
                </a:cubicBezTo>
                <a:cubicBezTo>
                  <a:pt x="6793" y="16285"/>
                  <a:pt x="6642" y="16411"/>
                  <a:pt x="6474" y="16545"/>
                </a:cubicBezTo>
                <a:cubicBezTo>
                  <a:pt x="6325" y="16664"/>
                  <a:pt x="6323" y="16785"/>
                  <a:pt x="6449" y="16942"/>
                </a:cubicBezTo>
                <a:cubicBezTo>
                  <a:pt x="6669" y="17216"/>
                  <a:pt x="7016" y="17280"/>
                  <a:pt x="7342" y="17190"/>
                </a:cubicBezTo>
                <a:cubicBezTo>
                  <a:pt x="7623" y="17113"/>
                  <a:pt x="7900" y="16947"/>
                  <a:pt x="8161" y="16818"/>
                </a:cubicBezTo>
              </a:path>
              <a:path w="4912" h="1687">
                <a:moveTo>
                  <a:pt x="8954" y="16545"/>
                </a:moveTo>
                <a:lnTo>
                  <a:pt x="8954" y="16545"/>
                </a:lnTo>
              </a:path>
              <a:path w="4912" h="1687">
                <a:moveTo>
                  <a:pt x="8979" y="16495"/>
                </a:moveTo>
                <a:cubicBezTo>
                  <a:pt x="9060" y="16399"/>
                  <a:pt x="9098" y="16475"/>
                  <a:pt x="9227" y="16470"/>
                </a:cubicBezTo>
                <a:cubicBezTo>
                  <a:pt x="9359" y="16449"/>
                  <a:pt x="9391" y="16441"/>
                  <a:pt x="9475" y="16446"/>
                </a:cubicBezTo>
              </a:path>
              <a:path w="4912" h="1687">
                <a:moveTo>
                  <a:pt x="9153" y="16718"/>
                </a:moveTo>
                <a:cubicBezTo>
                  <a:pt x="9308" y="16669"/>
                  <a:pt x="9462" y="16610"/>
                  <a:pt x="9624" y="16594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48040" y="5840280"/>
            <a:ext cx="19080" cy="258840"/>
          </a:xfrm>
          <a:custGeom>
            <a:avLst/>
            <a:gdLst/>
            <a:ahLst/>
            <a:rect l="l" t="t" r="r" b="b"/>
            <a:pathLst>
              <a:path w="50" h="721">
                <a:moveTo>
                  <a:pt x="10691" y="16222"/>
                </a:moveTo>
                <a:cubicBezTo>
                  <a:pt x="10716" y="16444"/>
                  <a:pt x="10733" y="16668"/>
                  <a:pt x="10740" y="16892"/>
                </a:cubicBezTo>
                <a:cubicBezTo>
                  <a:pt x="10740" y="16909"/>
                  <a:pt x="10740" y="16925"/>
                  <a:pt x="10740" y="16942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pg. 69           3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9:28:08Z</dcterms:created>
  <dc:creator>ccps</dc:creator>
  <dc:description/>
  <dc:language>en-US</dc:language>
  <cp:lastModifiedBy>deanne elizabeth mcgrath</cp:lastModifiedBy>
  <dcterms:modified xsi:type="dcterms:W3CDTF">2011-01-05T19:40:50Z</dcterms:modified>
  <cp:revision>8</cp:revision>
  <dc:subject/>
  <dc:title>12.17.07   Section 6.2</dc:title>
</cp:coreProperties>
</file>